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gif" ContentType="image/gi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732-9DE0-44A5-9591-0C8437D8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053-9C08-4B2B-B528-AFE6899A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326-6303-492B-BECC-B8301838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C18-C749-4A63-A592-7E7911D4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8AC-C479-41C8-9A26-E57D24EA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692-75C6-4D69-81D7-E0D90BBD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BF9-6A6D-43C8-945E-143D3FBD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0A3-0A70-4FC2-B174-698E89EC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7B7-5CA3-4940-925B-8B96A92F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E83-2C97-4EAC-B34D-54245799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027-DA9D-44D1-AE3F-94024225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362-0D6A-45E9-B087-0CFA5FEC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CD27-EBD8-481E-8492-3E7D28D14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tudios.adam.com/animation_studio.ht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tudios.adam.com/animation_studio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portunterricht.de/lksport/bbstand.htm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wmteam.de/intro_swf/index2.html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wmteam.de/intro_swf/index2.html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ixar.com/shorts/tt/theater/short_320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2349360"/>
            <a:ext cx="7380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daktische Gestaltung 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652640"/>
            <a:ext cx="367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berseminar: E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ja Krengel ~ Jens Die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2924280"/>
            <a:ext cx="784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onzeption von Animatio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8480" y="58770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. Janua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74400" y="2173320"/>
            <a:ext cx="8373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die Einsatzgebiete von Animationen werden nach den zw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scheinungsformen des E-Learnings unterschie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. Computer Based Training (C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. Web Based Training (WB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insatzgebiete von Anim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74400" y="2173320"/>
            <a:ext cx="8373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mputer Based Training (C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utzt den Computer als Medium der Informationsdarbie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m Lerninhalte bereit zu stellen werden CD-Rom, DVD 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okales Netzwerk genut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ntscheidender Faktor, da die verfügbare Bandbreite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so die Übertragungsgeschwindigkeit des Interne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nschlusses keine Rolle spi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mit steht die Dateigröße der Animation nicht im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ordergr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insatzgebiete von Anim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3789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74400" y="2173320"/>
            <a:ext cx="8373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b Based Training (W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Lerninhalte werden über das Internet zur Verfügung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stel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Bandbreite der Internetverbindung des Lernenden nimm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ermit eine entscheidende Rolle 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Dateigröße stellt einen entscheidenden Faktor bei 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stellung der Animation 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insatzgebiete von Anim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74400" y="2173320"/>
            <a:ext cx="8373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ine Animation kann zu unterschiedlichen Zwecken eingesetzt werd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 wichtigsten Funktionen si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k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fmerksamkeitslen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ä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deutli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ktionen von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74400" y="2173320"/>
            <a:ext cx="8373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ko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insatz von Animationen zur dekorativen Anreicherung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rnsystemen soll die Lerninhalte attraktiver für die Le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entsprechend gestaltete Animationen wirken sich ka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f den Lernprozess aus, sie können den Lernenden so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m Lerngegenstand ablen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tunter können auch wichtige Informationen falsch oder 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cht verstanden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zit: Vorsicht beim Einsatz einer Animation zum Zwecke 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k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ktionen von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760" y="2173320"/>
            <a:ext cx="8518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fmerksamkeitslenkung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nimationen können zur Generierung, Lenkung und Aufrech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altung der Aufmerksamkeit verwend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sonders wichtig zu Beginn einer Lernei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nn die Aufmerksamkeit des Lerners von Anfang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gefangen wird, besteht die Möglichkeit, dass er bis zum E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r Unterweisung aufmerksam blei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cc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spiel: visualisierte Formen so genannter „Pädagogis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enten“, Charaktere, die den Lernprozess unterstütz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gleiten (diverse Erscheinungsformen, z. B. animier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atoonähnliche Figur oder reale Person)</a:t>
            </a:r>
            <a:r>
              <a:rPr b="0" lang="de-DE" sz="1800" spc="-1" strike="noStrike">
                <a:solidFill>
                  <a:srgbClr val="99cc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ktionen von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342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2"/>
          </p:cNvPr>
          <p:cNvSpPr/>
          <p:nvPr/>
        </p:nvSpPr>
        <p:spPr>
          <a:xfrm>
            <a:off x="8763120" y="5943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74760" y="2173320"/>
            <a:ext cx="8518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tiv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ine Animation kann sich auf den weiteren Lernverlau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tivierend auswirken, wenn die Aufmerksamkeit 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rnenden erreicht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eignet sind Rückmeldungen (Feedback) an den Le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er Vorsicht dabei, beispielsweise sollte ein positives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z.B. animiertes Feuerwerk) nicht nach mittelmäßigen o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chen Antworten gegeben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ktionen von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74760" y="2172960"/>
            <a:ext cx="851832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äsent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istens werden Animationen zum Zweck der Prä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ines bestimmten Sachverhaltes eingeset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tionen für komplizierte dynamische Prozesse, die nic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ekt beobachtbar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ispiele:      :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läufe in einem chemischen Re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liche Proz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utkreis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Ökosyst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uerung durch Hormone us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ktionen von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/>
          </p:cNvPr>
          <p:cNvSpPr/>
          <p:nvPr/>
        </p:nvSpPr>
        <p:spPr>
          <a:xfrm>
            <a:off x="8763120" y="5943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76924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deutlichung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ng verwandt mit der Funktion: Prä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nimationen zur Verdeutlichung komplexer Sachverhalte a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terschiedlichen Perspekt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nimationen können wichtige Rolle beim Aufbau „menta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odelle“ einne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Üb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ieber (1990) unterscheidet Strategien der Übung von ho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ukturiert (im Ablauf vorgegeben) bis (selbständig) entde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sp. Hoch strukturier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. animierte Frage-und Antwort-Ü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. Flugsimul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ktionen von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8763120" y="4038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76924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rundlegende Unterscheidung in drei Kategori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Einzelbild-basierende Animations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animierte GIF,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Vektorbasierende Animationsform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Flash, Shockwa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. Verfahren durch Programmiersprachen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JavaScr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scheinungsf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727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ieder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4760" y="2173320"/>
            <a:ext cx="822960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rifferklär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chichte der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nsatzgebiete von Ani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ktionen von Ani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scheinungsfo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aktische Empfehlungen für Animati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r- und Nacht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769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zelbild-basierende Animations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e älteste aber immer noch beliebteste Form der Animation für 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ternet ist das animierte 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IF-Format (Graphic Interchange Format) wurde 1987 von Compuser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ntwickelt und speichert die Bildinformationen (Punkt für Pun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ehrere verschiedene Einzelbilder werden in einer Datei gespeichert, 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er Information, wie lange das einzelne Bild gezeigt wi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urch diesen möglichen Austausch von Bildern und der Trägheit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enschlichen Auges entsteht beim Betrachter der Eindruck von Bewe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e Dateigröße eines GIF-Format gespeicherten Bildes ist sehr ger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er Nachteil besteht darin, dass lediglich 256 Farben gespeichert werde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omit nicht geeignet für die Wiedergabe von F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scheinungsf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438280" y="5334120"/>
            <a:ext cx="3886200" cy="728640"/>
          </a:xfrm>
          <a:prstGeom prst="rect">
            <a:avLst/>
          </a:prstGeom>
          <a:ln w="0">
            <a:noFill/>
          </a:ln>
        </p:spPr>
      </p:pic>
      <p:pic>
        <p:nvPicPr>
          <p:cNvPr id="173" name="sternSmWHT" descr=""/>
          <p:cNvPicPr/>
          <p:nvPr/>
        </p:nvPicPr>
        <p:blipFill>
          <a:blip r:embed="rId3"/>
          <a:stretch/>
        </p:blipFill>
        <p:spPr>
          <a:xfrm>
            <a:off x="7010280" y="5235480"/>
            <a:ext cx="13716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74400" y="2014200"/>
            <a:ext cx="876924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ktorbasierende Animations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ichtigste vektorbasierte Format für Animationen im Internet stellt 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on Macromedia (1998) entwickelte Shockwave-Flash-Format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eim vektorbasierten Format werden einzelne Objekte durch e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athematische Beschreibung ihrer Form und ihrer Koordinaten dargestel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. h. für eine Linie muss nicht Punkt für Punkt gespeichert werde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ondern lediglich der Anfangs- und Endpunkt, sowie die Dicke und Fa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orteil: geringere Dateigröße (Speicherinformatio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eitere Vorteile sind die verlustfreie Skalierbarkeit (Vektorgrafik kan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eliebig skaliert werden ohne Qualitätsverluste) und die gute Streaming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ähigkeit (Animation spielt bereits ab, währenddessen sie no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eruntergeladen wi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ichtigste Programm zur Erstellung vektorbasierter Animationen ist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lash erstellt Vektorgrafiken oder Animationen im Shockwave Fla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ormat (.sw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scheinungsf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41911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2"/>
          </p:cNvPr>
          <p:cNvSpPr/>
          <p:nvPr/>
        </p:nvSpPr>
        <p:spPr>
          <a:xfrm>
            <a:off x="8763120" y="5943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76924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fahren durch Programmiersprac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e andere Methode, Animationen für das Internet zu erstellen ist 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erwendung von JavaScrip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ähnlich dem vektorbasierenden Formate, die objektorientie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criptsprache wird auf dem Rechner des Betrachters ausge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ilder und Grafiken werden als Objekte behandelt, denen dann We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zw. Koordinaten zugewiesen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omit ist es möglich, einfache aber auch interaktive Animationen o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imulationen zu 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lugins oder spezielle Entwicklungsprogramme werden nicht benö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scheinungsf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8763120" y="5943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5899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fehlungen für die Einstellung von Animatio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her einfache als komplizierte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bieten von Steuerungsmöglich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ine Animation sollte stets in einem unmittelbaren Zusammen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ng zum gerade vermittelten Lerngegenstand ste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eit zur Refl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insatz von dynamischen, interaktiven Graf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rurteile und Stereotypen sind zu verme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passung an die technischen Bedingungen der Endverbrau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119700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daktische Empfehl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5899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Eher einfache als komplizierte Animatio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„Weniger kann oft mehr sei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tionen sollten nicht zu kompliziert gestaltet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 exzessive Nutzung komplizierter Anwendungsmöglichkei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nn zu geringen oder negativen Lerneffekten führen, wenn 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rner durch die Animation überfordert w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wächere Lerner haben zudem oft Schwierigkeiten, ih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fmerksamkeit auf die relevanten Aspekte einer Animation z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n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. B. durch Hervorhebung von Pfeilen oder Far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119700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daktische Empfehl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49528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5899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Anbieten von Steuerungsmöglichk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rvorhebung bestimmter Aspekte der Animation, Möglichke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r Steuerung der Ablaufgeschwind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ch Funktionen wie Rücklauf, Vorlauf oder Verlassen 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tion sind sinnvolle Ergänz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 ermöglichen Benutzerfreundlichkeit und bieten Adaptivitä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die Lernerbedürfnis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119700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daktische Empfehl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76924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3. Eine Animation sollte stets in einem unmittelbaren Zusammenh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m gerade vermittelten Lerngegenstand ste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at die Animation nur am Rande mit dem momenta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erninhalt zu tun, kann dies zu Ablenkungen und Verwir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eitens des Lernenden fü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4. Zeit zur Reflex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ür den Lernenden sollte Zeit zur Reflexion bzw. Hilfen z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terpretation vor und nach der Animation eingeräum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5. Einsatz von dynamischen, interaktiven Grafik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setzung dieser Grafiken ist sinnv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ieber (1990) bezeichnet interaktive Grafiken als wichtigs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trag der Animation zum computergestützten Lernen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119700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daktische Empfehl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5899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. Vorurteile und Stereotypen sind zu vermei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erlassung von Vorurteilen und Stereo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lturelle Besonderheiten hingegen sollten beach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. Anpassung an die technischen Bedingungen der Endverbrauc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sche Bedingungen des Lernenden sind Orientierungspun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ur Entwicklung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ine Zielgruppenanalyse könnte hier hilf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ben der Internetzugangsgeschwindigkeit und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zessorleistung spielen vor allem die grafischen Aspek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Bildschirmauflösung, Grafikkarte) eine wichtige Ro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119700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daktische Empfehl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5899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achte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röße der Datei, bei langsame Internetverbindungen kann 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ernen in seinem Lernfluss stark beeinträchtig werden, der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ernende verliert die Motivation und das Interesse am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achteil besteht nur bei Web Based Training (W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orte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önnen ohne lange Wartezeiten zur Auflockerung und Moti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s Lernen di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genen sich sehr gut für die Darstellung von zeitlichen Abläu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ssere Interaktivität gegenüber reiner Informationsaufnah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Bsp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nge, die schon einmal gemacht oder gesehen wu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rken sich leich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119700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r- und Nachte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5899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119700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133720"/>
            <a:ext cx="858996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roße Wachstumsrate am E-Learning-Mar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ründe: verkürzte Produktlebenszyklen, kürzere Halbwertzei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s Wissens und Globalisierung -  Wissen schnell an die richti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elle zu bringen, wird immer wich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it wachsenden Anforderungen an die Qualität und die didaktische Aufbereitung der E-Learning-Angebote steigt auch der Bedarf an interaktiven In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nimationen im E-Learning kommen jetzt langsam zum Einsat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bwohl die Techniken bereits einige Zeit auf dem Markt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nn E-Learning-Angebote von einer breiteren Nutzerschicht fü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ielseitigere Lerninhalte genutzt werden, wird sicherlich a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teraktivität gefragt sein und dadurch mehr Animati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wend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ntwicklung längst nicht abgeschlo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74760" y="21733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nimation (lat. „anima“) = Bele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in der Filmtechnik beschrieben als „Szene bewegter Bild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schnell hintereinander betrachtet, liefert sie einen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   Daumenkinoprinz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alle visuellen Merkmale eines Objektes können animier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z.B. Position, Form, Farbe, Text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veränderbar sind auch die Beleuchtung (z.B. Lichttemperatu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ichtintensität, Beleuchtungswinkel) oder der Standpunkt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irtuellen Kam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die Bilder werden einzeln produziert und anschließend zusamm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setzt - darin liegt der Unterschied zum Video oder Film, wo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ilder kontinuierlich mit einer Kamera aufgezeichn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rifferklä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342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5899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119700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09680"/>
            <a:ext cx="83818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CHLITERA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Niegemann et al. – „Kompendium E-Learning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www.macromedi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www.app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www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ni-hannover.d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www.uni-leipzig.de (Geschichte des E-Learning, Dr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arin Weh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: www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ada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74400" y="2133360"/>
            <a:ext cx="85899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129528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ttp://www.cgen.com/research/altsplicing_presentation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22096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E-learning_beispielseite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663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74760" y="2173320"/>
            <a:ext cx="846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824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hysiologe Peter Mark Roget forscht über die Retina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ellt fest, dass statische Bilder mit leichter Veränderu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ie rasch hintereinander gezeigt werden, bewegt erschei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araufhin baut er das Daumenk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ies erklärt die filmische Illusion eines kontinuierlic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ewegungsablauf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1832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Joseph Plateau erfindet das Phenakitiscope, welches a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einem Bildfenster und einer rotierenden Scheibe besteh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an deren Rand Bilder angeordne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Wenn sich die Scheibe dreht, erscheinen die Bilder bew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schichte der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4660920"/>
            <a:ext cx="10540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74760" y="21733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1870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dward Muybridge ist der erste Fotograf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r Bewegung in Fotografien einfäng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dem er mehrere Kameras kur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acheinander auslö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898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orge Méliés animiert die Buchstaben des Alphabets fü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erbefil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914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arl Hurd lässt das Zellverfahren patentieren. Verschiede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Zelluloid-Bilder können über einen einzelnen statisc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intergrund übereinader gelegt werden und müssen nic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edes Mal neu gezeichn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926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r erste Animationsfilm in Spielfilmlänge - mitt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cherenschnitttechnik - wird her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schichte der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10280" y="1600200"/>
            <a:ext cx="1054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74760" y="21733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1928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Walt Disney ist die wichtigste Animationsfigur 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20 Jh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Zusammenarbeit mit dem Zeich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b Iwerks entwickelt er “Steamboat Willie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n ersten gezeichneten Tonfilm, 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kommerziellen Erfolg genieß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45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3 ehemalige Mitarbeiter von Disney gründen die UP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(United Productions of America) und den sogenann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PA-Style mit vereinfachten Zeichnung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(zweidimensional, statische Hintergründe), immer gleic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erspektive, abstrakten Linien, Mustern und stilisier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arben.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schichte von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Steamboat Willie"/>
          <p:cNvPicPr/>
          <p:nvPr/>
        </p:nvPicPr>
        <p:blipFill>
          <a:blip r:embed="rId2"/>
          <a:stretch/>
        </p:blipFill>
        <p:spPr>
          <a:xfrm>
            <a:off x="7391520" y="1981080"/>
            <a:ext cx="12952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74760" y="2173320"/>
            <a:ext cx="8616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1951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Die US-Fernsehsendung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See it now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führt die erste beweg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Computersequenz vor (Bahn eines springenden Ball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Programmiert wird sie am MIT in Boston auf dem er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Echtzeit-Digitalrechner der Welt - dem Whirlwind-Compu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Die Zeichnungen werden am Computer erstellt und ü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Plotter auf Papier gedruckt, mit einer Filmkamera abfotografie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und nacheinander in eine Sequenz gebra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61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dvard Zajac, Forscher an den Bell Laboratorien, erstellt 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sten computeranimierten Film auf einem IBM 7090. 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ilm ist vier Minuten lang und veranschaulicht die Beweg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d Eigendrehung eines Satelliten als Folge von Einzelpha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88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Tin Toy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Pixar, die Geschichte über eine Aufzie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uppe und ein Baby, erhält einen Oscar. Für 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nimation des Baby-Gesichts werden mehr als 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esichtsmuskeln definie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schichte der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5029200"/>
            <a:ext cx="12193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4760" y="2173320"/>
            <a:ext cx="8616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1992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Cartoon Network ist der erste Fernsehsender, der 24h am Ta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nur Animationen send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1995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oy Story,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 der erste vollständig am Computer animie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dreidimensionale Spielfilm,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gewinnt einen Spe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Achievement Oscar. Es ist die erste von mehreren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Co-Produktionen zwischen Pixar und Disne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"125 Computertechniker und Trickfilmanimatoren arbeiteten an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oy Story. Die Produktion dauerte vier Jahre, es wurden 300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SUN-Hochleistungsrechner eingesetzt. Um alle 114.240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Einzelbilder zu errechnen, war ein Speicherbedarf von 500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Gigabyte notwendig, die Compute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arbeiteten insgesam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800.000 Stunden." (Geis 1998:7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schichte der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74760" y="2173320"/>
            <a:ext cx="8616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1996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F-Animation werden im Einsatz von Webseiten imm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eliebter. Man benötigt lediglich ein Grafikprogramm und e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hareware-Ani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aumenkin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37840" y="131760"/>
            <a:ext cx="63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aktische Gestaltung und Konzeption von Ani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520" y="640404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Oberseminar: E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65400" y="64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Janua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65400" y="638172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Anja Krengel ~ Jens Die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19700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schichte der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12114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8:39:50Z</dcterms:created>
  <dc:creator>Administrator</dc:creator>
  <dc:description/>
  <dc:language>en-US</dc:language>
  <cp:lastModifiedBy>akrengel</cp:lastModifiedBy>
  <dcterms:modified xsi:type="dcterms:W3CDTF">2005-01-18T11:18:51Z</dcterms:modified>
  <cp:revision>61</cp:revision>
  <dc:subject/>
  <dc:title>Didaktische Gestaltung und</dc:title>
</cp:coreProperties>
</file>