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DE76-0639-413F-B467-97F0485EBD6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gl. dazu Kompendium E-Learning Seite 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gl. dazu Kompendium E-Learning Seite 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CE5F3-6765-42E2-9646-E212FBEF8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47CDB-8364-4AFF-9DBC-9B5B6D50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46721-3A17-4178-B73B-C73E34040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42BF2-E348-4D7B-A961-E86C1119C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225C-FF0F-4675-A6D6-F34A36B79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C5D1-DCDA-413B-A3D8-03604FDB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78DD-E831-4F5C-B5E0-7E482DCA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06A2C-9DF4-46A8-B24C-CAEFD366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3646-C724-41CF-BB51-0B8B4D21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2241-8829-4C26-AB6D-6117D7DE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EB3C0-465C-4C62-957E-EE0A6397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AA87A-1AB8-449E-970D-394540E2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92D6-3C40-4F43-9A6A-9576B31B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BE79-0DC5-489F-B04B-3056000A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065B-EB24-47C7-B596-F834B771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27A8E-3FB2-4B2A-BD31-AEAF4B8F0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16A1-7A22-45ED-AE7F-122939A9F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B6A40-8E31-4B12-A602-7B6F6ABE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3A972-1304-4645-86A2-E89100DE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E4113-A2BE-4978-8C1B-789F283A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1D611-DFA2-4B8F-8776-DE6F12E4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BA436-72F8-4BDD-BF29-7FCCFD60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F9978-FBE9-4BCD-93E6-82B8292C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04B7C-05BB-474E-A1F7-8050A611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25E8-32B6-4D0B-A773-D0B14A7EFF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AEC0-96C3-4B97-B722-1AC0CD266C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Segmentierung und Sequenzierung von Lehrstoff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4533840"/>
            <a:ext cx="6400800" cy="13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00"/>
                </a:solidFill>
                <a:latin typeface="Garamond"/>
              </a:rPr>
              <a:t>Andreas Möhlenbrock &amp; Andrè Heinicke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Garamond"/>
              </a:rPr>
              <a:t>OS E-Lerning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5e5ff"/>
                </a:solidFill>
                <a:latin typeface="Garamond"/>
              </a:rPr>
              <a:t>Lernzielkategorien nach Gagn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195840" y="1343160"/>
            <a:ext cx="305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Das Ur-Model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rachlich repräsentiertes Wiss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ognitive Fähigkeit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ognitive Strategi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instellu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torische Fähigkeit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/>
          <p:nvPr/>
        </p:nvSpPr>
        <p:spPr>
          <a:xfrm>
            <a:off x="5364000" y="4508640"/>
            <a:ext cx="2953080" cy="1873080"/>
          </a:xfrm>
          <a:prstGeom prst="wedgeRoundRectCallout">
            <a:avLst>
              <a:gd name="adj1" fmla="val -65000"/>
              <a:gd name="adj2" fmla="val -44324"/>
              <a:gd name="adj3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gmentierung 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bhängigkei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jeder einzeln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atego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S E-Lern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2750A-16EE-4249-B4D9-513FD6732C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5e5ff"/>
                </a:solidFill>
                <a:latin typeface="Garamond"/>
              </a:rPr>
              <a:t>Lehr-Ereignisse (Gagne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2278080"/>
            <a:ext cx="2232000" cy="863640"/>
          </a:xfrm>
          <a:prstGeom prst="foldedCorner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Aufmerksamke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gewinn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2879640" y="238572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19640" y="2278080"/>
            <a:ext cx="2232000" cy="863640"/>
          </a:xfrm>
          <a:prstGeom prst="foldedCorner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Informie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über Lehrzie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72360" y="2278080"/>
            <a:ext cx="2232000" cy="863640"/>
          </a:xfrm>
          <a:prstGeom prst="foldedCorner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Vorwiss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aktivie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5832360" y="238572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3862440"/>
            <a:ext cx="2232000" cy="863640"/>
          </a:xfrm>
          <a:prstGeom prst="foldedCorner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Ausführen 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Anwenden lass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 rot="5400000">
            <a:off x="2878920" y="397008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19640" y="3862440"/>
            <a:ext cx="2232000" cy="863640"/>
          </a:xfrm>
          <a:prstGeom prst="foldedCorner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Lern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anlei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72360" y="3862440"/>
            <a:ext cx="2232000" cy="863640"/>
          </a:xfrm>
          <a:prstGeom prst="foldedCorner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Darstel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des Lehrstoff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rot="5400000">
            <a:off x="5831640" y="397008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5445000"/>
            <a:ext cx="2232000" cy="863640"/>
          </a:xfrm>
          <a:prstGeom prst="foldedCorner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Informa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Rückmeldung geb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6200000">
            <a:off x="2879640" y="555264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5445000"/>
            <a:ext cx="2232000" cy="863640"/>
          </a:xfrm>
          <a:prstGeom prst="foldedCorner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Leistung kontrollie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und beurtei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72360" y="5445000"/>
            <a:ext cx="2232000" cy="863640"/>
          </a:xfrm>
          <a:prstGeom prst="foldedCorner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Behalten u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Transfer sicher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6200000">
            <a:off x="5832360" y="555264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03280" y="4797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80360" y="321300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S E-Lern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AA8E9-3139-42B3-8AC2-D3FCC9309B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dnung der Lehrziele - affektiv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achtung, Aufmerksamkei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aktion, Bereitschaft, Befriedigu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rten, Bindung an Wer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S E-Lern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44C43-3D58-45D7-B06A-D300668AB6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5e5ff"/>
                </a:solidFill>
                <a:latin typeface="Garamond"/>
              </a:rPr>
              <a:t>Ziele von Anchored Instru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ilfen für Lernende beim Verständnis des Wesentlich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dividuelle Anpassung der Lehrmaßnahmen an das vorhandene Vorwissen der Lernend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mittlung unterschiedlicher Sicht- und Herangehensweisen in Bezug auf die jeweiligen Lehrinhal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ufhängen“ neuer Lehreinheiten an subjektiv sinnvollen, möglichst authentischen Aufgabenstellu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S E-Lern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48C05-5024-4537-AB32-6AB1A1029A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5e5ff"/>
                </a:solidFill>
                <a:latin typeface="Garamond"/>
              </a:rPr>
              <a:t>Ziele von Anchored Instru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tivieren durch Anregung der Neugier und Wecken von Erwartungshaltu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ilfe für Lernende, ihre Lernfortschritte zu erkennen und zu reflektie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iterentwicklung der Lehrmethod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onanz der Lernend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S E-Lern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B6939-E358-49AF-BAC6-21980B9352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ernen von den (alten) Meister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Idee: Lernende nach anfänglicher starker Stützung durch einen Meister Schritt für Schritt in Selbstständigkeit entlass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neues Wissen / Verhalten  - adäquat erwerb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selbstgesteuert, kontrolliert nutz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damit entwickeln und produzie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"/>
          <p:cNvSpPr/>
          <p:nvPr/>
        </p:nvSpPr>
        <p:spPr>
          <a:xfrm>
            <a:off x="-141840" y="1343160"/>
            <a:ext cx="653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Garamond"/>
              </a:rPr>
              <a:t>Cognitive-Apprenticeship-Ansat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S E-Lern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ADA8D-E475-4C07-B31A-5A321BD57D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ernen von den (alten) Meister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quenzierung des Lehrstoffs erklär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ginnen bei geringer Komplexitä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eigende Komplexität des zu vermittelnden Wisse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eigende Variabilität für zu erlernende Vorgehensweisen, Strategien und Fähigkeite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Verhinderung einer zu engen kontextuellen Bindu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"/>
          <p:cNvSpPr/>
          <p:nvPr/>
        </p:nvSpPr>
        <p:spPr>
          <a:xfrm>
            <a:off x="-141840" y="1343160"/>
            <a:ext cx="653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Garamond"/>
              </a:rPr>
              <a:t>Cognitive-Apprenticeship-Ansat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S E-Lern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2B772-5E60-49A1-B898-00F796991E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nalyse der Ausgangsbedingunge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blem und Bedar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ressaten (Zielgrupp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halte (zu vermittelndes Wisse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sourcen und Einsatzkontex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S E-Lern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DC4BE-8D0F-4830-B390-90B165F6C07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erntypen nach Elsäss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Lernen durch Eigenerfahru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Entdeckendes Lern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Entwicklungsförderndes / strukturveränderndes Lern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Problemlös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Begriffsbildu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Konzeptbildu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Betrachtendes Lern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S E-Lern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2AA10-5C5C-461C-9AC8-4AC0D04F24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erntypen nach Elsäss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Lernen von Strategi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Routinebildung und Training von Fertigkeit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Motilitätsmode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Aufbau dynamischer Sozialbeziehu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Wert- und Identitätsaufba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Hypertext-Lern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Verhandeln lern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S E-Lern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8CC57-5246-4198-B6E0-03BB553690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5e5ff"/>
                </a:solidFill>
                <a:latin typeface="Garamond"/>
              </a:rPr>
              <a:t>Inhal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Segmentbildu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Warum und wa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Lernzielkategori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Lehrereignis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Lernen von den alten Meister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Lerntyp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S E-Lern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02BE7-23CE-4F17-96FC-D975A13272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rukturierung der Lernzie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"/>
          <p:cNvSpPr/>
          <p:nvPr/>
        </p:nvSpPr>
        <p:spPr>
          <a:xfrm>
            <a:off x="611280" y="2349360"/>
            <a:ext cx="1655640" cy="574920"/>
          </a:xfrm>
          <a:prstGeom prst="foldedCorner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Hauptaufgab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1413000"/>
            <a:ext cx="2016000" cy="863640"/>
          </a:xfrm>
          <a:prstGeom prst="downArrowCallout">
            <a:avLst>
              <a:gd name="adj1" fmla="val 58363"/>
              <a:gd name="adj2" fmla="val 58358"/>
              <a:gd name="adj3" fmla="val 16667"/>
              <a:gd name="adj4" fmla="val 6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rbeitsbeschreib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2720" y="3646440"/>
            <a:ext cx="1655640" cy="574560"/>
          </a:xfrm>
          <a:prstGeom prst="foldedCorner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Teilaufgab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1280" y="4941720"/>
            <a:ext cx="1655640" cy="649440"/>
          </a:xfrm>
          <a:prstGeom prst="foldedCorner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einzel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Arbeitsabläuf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258920" y="2997360"/>
            <a:ext cx="360360" cy="576000"/>
          </a:xfrm>
          <a:prstGeom prst="downArrow">
            <a:avLst>
              <a:gd name="adj1" fmla="val 50000"/>
              <a:gd name="adj2" fmla="val 3996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58920" y="429264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92360" y="2349360"/>
            <a:ext cx="1800360" cy="574920"/>
          </a:xfrm>
          <a:prstGeom prst="foldedCorner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Ausbildungs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abschni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92360" y="3646440"/>
            <a:ext cx="1800360" cy="574560"/>
          </a:xfrm>
          <a:prstGeom prst="foldedCorner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Organisations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92360" y="4941720"/>
            <a:ext cx="1800360" cy="649440"/>
          </a:xfrm>
          <a:prstGeom prst="foldedCorner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Lernsequen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88000" y="2349360"/>
            <a:ext cx="1800360" cy="574920"/>
          </a:xfrm>
          <a:prstGeom prst="foldedCorner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Richtzie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3359160"/>
            <a:ext cx="1800360" cy="574560"/>
          </a:xfrm>
          <a:prstGeom prst="foldedCorner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Grobzie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588000" y="4365720"/>
            <a:ext cx="1800360" cy="649080"/>
          </a:xfrm>
          <a:prstGeom prst="foldedCorner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514"/>
                </a:solidFill>
                <a:latin typeface="Garamond"/>
              </a:rPr>
              <a:t>Funktions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514"/>
                </a:solidFill>
                <a:latin typeface="Garamond"/>
              </a:rPr>
              <a:t>zielblöck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381800" y="2997360"/>
            <a:ext cx="28728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88000" y="5445000"/>
            <a:ext cx="1835280" cy="649440"/>
          </a:xfrm>
          <a:prstGeom prst="foldedCorner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Folge operational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Lernzie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19640" y="1413000"/>
            <a:ext cx="2016000" cy="863640"/>
          </a:xfrm>
          <a:prstGeom prst="downArrowCallout">
            <a:avLst>
              <a:gd name="adj1" fmla="val 58363"/>
              <a:gd name="adj2" fmla="val 58358"/>
              <a:gd name="adj3" fmla="val 16667"/>
              <a:gd name="adj4" fmla="val 6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urricul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72360" y="1413000"/>
            <a:ext cx="2305080" cy="863640"/>
          </a:xfrm>
          <a:prstGeom prst="downArrowCallout">
            <a:avLst>
              <a:gd name="adj1" fmla="val 66732"/>
              <a:gd name="adj2" fmla="val 66726"/>
              <a:gd name="adj3" fmla="val 16667"/>
              <a:gd name="adj4" fmla="val 6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llgemeine Intention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5805360"/>
            <a:ext cx="5975280" cy="792360"/>
          </a:xfrm>
          <a:prstGeom prst="rightArrow">
            <a:avLst>
              <a:gd name="adj1" fmla="val 50000"/>
              <a:gd name="adj2" fmla="val 188528"/>
            </a:avLst>
          </a:prstGeom>
          <a:solidFill>
            <a:srgbClr val="a886e0">
              <a:alpha val="2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achsender Spezifikationsgr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11640" y="2997360"/>
            <a:ext cx="360360" cy="576000"/>
          </a:xfrm>
          <a:prstGeom prst="downArrow">
            <a:avLst>
              <a:gd name="adj1" fmla="val 50000"/>
              <a:gd name="adj2" fmla="val 3996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11640" y="429264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381800" y="5084640"/>
            <a:ext cx="287280" cy="287640"/>
          </a:xfrm>
          <a:prstGeom prst="downArrow">
            <a:avLst>
              <a:gd name="adj1" fmla="val 50000"/>
              <a:gd name="adj2" fmla="val 250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381800" y="4005360"/>
            <a:ext cx="28728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S E-Lern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B8CF6-A87C-4469-92F6-AA764B34EE1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ernzielpräzisieru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r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itua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in der die Leistung gezeigt werden sol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r (nicht direkt beobachtbaren) zu erlernenden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ähigke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s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bjekt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an dem die Leistung gezeigt werden sol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r (beobachtbaren)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Ak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die der Lernende vornehmen sol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r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ilfsmittel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Beschränkungen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der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pezifischen Bedingung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"/>
          <p:cNvSpPr/>
          <p:nvPr/>
        </p:nvSpPr>
        <p:spPr>
          <a:xfrm>
            <a:off x="-517680" y="1343160"/>
            <a:ext cx="90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Lernzielpräzisierung unter Berücksichtigu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S E-Lern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E92E0-AA86-403D-B3B2-DF46C611A96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dnung der Lernziele - kognitiv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inzelfakt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griffsdefinitionen (terminologisches Wisse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omplexe Zusammenhän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eitliche Abläuf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lassifikationen, Ordnung nach Kriteri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fahrensweisen, Method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nzipien, Verallgemeineru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orien, Model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S E-Lern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66551-6B16-4214-821A-DD543D4CE9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dnung der Lernziele - kognitiv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ch informieren woll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stehen als Übersetzen von Information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gleichen und Interpretie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wenden als Gebrauch von Abstraktion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alyse von Element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ynthese (Verknüpfung von Teilinformatione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urteilen aufgrund rationaler Kriteri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S E-Lern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A093B-ED76-468C-A11D-4B67CA0400E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Ordnung der Lernziele - pragmatisch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Imitation, Ähnlichkei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Manipulation, Beeinflussung des Ablauf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Präzision, Fähigkei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Koordination mit anderen Element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Automatisation / Fertigkei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S E-Lern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8A6FF-00F3-4B78-A3B9-603FB925AAC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5e5ff"/>
                </a:solidFill>
                <a:latin typeface="Garamond"/>
              </a:rPr>
              <a:t>hierarchische Anordnung/Sequenzierung (Gagné)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Voraussetzungsrela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rst grundlegende Vorraussetzu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nn aufbauender Lehrstof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ierarchieebenen entsteh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Problem für Lernende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usammenhänge schwer erkennbar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klar, wofür zu lernende Grundlagen dienen werd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S E-Lern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DD3D7-2D35-4904-AAB4-2E4D607383F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equenzierung - Vorraussetzunge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öglichkeiten, erforderliche Inhalte zu lehre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ötige Lehrinhalte (Voraussetzungen) zu Beginn des Kurses anhäuf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rekt vor Nutzug leh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S E-Lern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1C56E-A891-4D70-A1E4-15D234BD5D2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equenzierung - Beziehung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Beziehungen zwischen Teilen des Lehrstoff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oraussetzungsre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ungszusammenhän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istorische Zusammenhän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Ähnlichkeit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S E-Lern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139D2-C776-4A62-B8B2-3F48DD5D942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5e5ff"/>
                </a:solidFill>
                <a:latin typeface="Garamond"/>
              </a:rPr>
              <a:t>Sequenzierung - Elaborationstheorie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Garamond"/>
              </a:rPr>
              <a:t>Elaborationstheorie (Reigeluth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Empfehlungen zur Segmentierung und Sequenzierung von Lehrstof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S E-Lern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1A5FC-777B-454C-B517-3A8BBE4D5FF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equenzieru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levanz der Sequenzierungsart (für erfolgreiches Lernen) abhängig von Hauptfaktore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ziehungsstärke zwischen den Them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i stärkeren Beziehungen wird Sequenzierung wichtig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mfang des Lehrstoff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i umfangreichem Stoff wird für Lernende das Nachvollziehen des Zusammenhangs von Lehreinheiten problematisch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tsprechend unterstützende Sequenz nutz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S E-Lern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15DBB-2BDB-46E5-BDE4-493EE33C5A7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5e5ff"/>
                </a:solidFill>
                <a:latin typeface="Garamond"/>
              </a:rPr>
              <a:t>Inhal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Sequenzieru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hierarchische Sequenzieru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Linear-sukzessive Sequenzierung und Spiral-Sequenzieru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Elaborationstheor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S E-Lern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2E4D3-0973-4BFD-BBE1-B8C628C1B3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equenzieru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rundlage von Sequenzierung sind Relationstypen zwischen Theme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orrausetzungen für das Lern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omplexität unterschiedlicher Varianten einer Aufgab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eitliche Abfolge von Ereigniss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übliche Abfolge von Tätigkeiten in der Praxis (Prozeduren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S E-Lern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671D0-8831-4700-B473-74C58D72011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equenzieru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Bei mehreren zu vermittelnden Themen ist Unterscheidung zwischen den Sequenzierungsmustern </a:t>
            </a:r>
            <a:r>
              <a:rPr b="1" lang="de-DE" sz="3200" spc="-1" strike="noStrike">
                <a:solidFill>
                  <a:srgbClr val="ffffff"/>
                </a:solidFill>
                <a:latin typeface="Garamond"/>
              </a:rPr>
              <a:t>Linear-sukzessive Sequenzierung</a:t>
            </a: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 und </a:t>
            </a:r>
            <a:r>
              <a:rPr b="1" lang="de-DE" sz="3200" spc="-1" strike="noStrike">
                <a:solidFill>
                  <a:srgbClr val="ffffff"/>
                </a:solidFill>
                <a:latin typeface="Garamond"/>
              </a:rPr>
              <a:t>Spiral-Sequenzierung </a:t>
            </a: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möglic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S E-Lern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14296-372D-4744-9B2F-1F08E2B4329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inear-sukzessive Sequenzierung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in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m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wird bis zum Erreichen eines bestimmten Grades an Kompetenz geleh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danach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erst Wechsel zu nächsten Them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orteil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ernender beschäftigt sich intensiv mit dem Them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ernender kann nötige Materialien/Ressourcen (z.B. Zusatzliteratur, ...) besser organisier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chteil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i Übergang zu den nächsten Themen wird viel Stoff wieder vergess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erstehen der Zusammenhänge zwischen Themen oftmals problematisch (deshalb sind Über-/Rückblicke und Verweise nötig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S E-Lern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B6CBA-9864-4DC2-9129-8518DD370E7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5e5ff"/>
                </a:solidFill>
                <a:latin typeface="Garamond"/>
              </a:rPr>
              <a:t>Spiralsequenz (Bruner 1960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s werden die Grundlagen eines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jede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Themas behandel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nschließen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werden die Themen jeweils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vertief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in ggf. mehreren Durchgängen) bis erwünschte Kompetenz erlangt wir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orteil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ernender erkennt besser Verbindungen/Beziehungen zwischen Them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ückblick quasi implizi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chteil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schäftigung mit einem Thema wird oft unterbroche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S E-Lern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74F15-D282-4D33-AA78-AEE8522DA73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equenzieru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6" name=""/>
          <p:cNvSpPr/>
          <p:nvPr/>
        </p:nvSpPr>
        <p:spPr>
          <a:xfrm>
            <a:off x="583560" y="1343160"/>
            <a:ext cx="374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Linear-sukzessi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Sequenzier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2000" y="1341360"/>
            <a:ext cx="30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Spiral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Sequenzier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079640" y="2924280"/>
            <a:ext cx="576000" cy="3168720"/>
            <a:chOff x="1079640" y="2924280"/>
            <a:chExt cx="576000" cy="3168720"/>
          </a:xfrm>
        </p:grpSpPr>
        <p:sp>
          <p:nvSpPr>
            <p:cNvPr id="219" name=""/>
            <p:cNvSpPr/>
            <p:nvPr/>
          </p:nvSpPr>
          <p:spPr>
            <a:xfrm>
              <a:off x="1079640" y="2924280"/>
              <a:ext cx="576000" cy="3168720"/>
            </a:xfrm>
            <a:custGeom>
              <a:avLst/>
              <a:gdLst>
                <a:gd name="textAreaLeft" fmla="*/ 28080 w 576000"/>
                <a:gd name="textAreaRight" fmla="*/ 547920 w 576000"/>
                <a:gd name="textAreaTop" fmla="*/ 28080 h 3168720"/>
                <a:gd name="textAreaBottom" fmla="*/ 3140640 h 3168720"/>
              </a:gdLst>
              <a:ahLst/>
              <a:rect l="textAreaLeft" t="textAreaTop" r="textAreaRight" b="textAreaBottom"/>
              <a:pathLst>
                <a:path w="21600" h="118766">
                  <a:moveTo>
                    <a:pt x="3600" y="0"/>
                  </a:moveTo>
                  <a:arcTo wR="3600" hR="3600" stAng="16200000" swAng="-5400000"/>
                  <a:lnTo>
                    <a:pt x="0" y="115166"/>
                  </a:lnTo>
                  <a:arcTo wR="3600" hR="3600" stAng="10800000" swAng="-5400000"/>
                  <a:lnTo>
                    <a:pt x="18000" y="1187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886e0">
                <a:alpha val="29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150920" y="3141720"/>
              <a:ext cx="431280" cy="3585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150920" y="3933720"/>
              <a:ext cx="431280" cy="358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150920" y="4726080"/>
              <a:ext cx="431280" cy="3585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50920" y="5518080"/>
              <a:ext cx="431280" cy="358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295280" y="3573360"/>
              <a:ext cx="144000" cy="287280"/>
            </a:xfrm>
            <a:prstGeom prst="downArrow">
              <a:avLst>
                <a:gd name="adj1" fmla="val 50000"/>
                <a:gd name="adj2" fmla="val 49875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95280" y="4365720"/>
              <a:ext cx="144000" cy="287280"/>
            </a:xfrm>
            <a:prstGeom prst="downArrow">
              <a:avLst>
                <a:gd name="adj1" fmla="val 50000"/>
                <a:gd name="adj2" fmla="val 49875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295280" y="5157720"/>
              <a:ext cx="144000" cy="287280"/>
            </a:xfrm>
            <a:prstGeom prst="downArrow">
              <a:avLst>
                <a:gd name="adj1" fmla="val 50000"/>
                <a:gd name="adj2" fmla="val 49875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016000" y="2924280"/>
            <a:ext cx="576360" cy="3168720"/>
            <a:chOff x="2016000" y="2924280"/>
            <a:chExt cx="576360" cy="3168720"/>
          </a:xfrm>
        </p:grpSpPr>
        <p:sp>
          <p:nvSpPr>
            <p:cNvPr id="228" name=""/>
            <p:cNvSpPr/>
            <p:nvPr/>
          </p:nvSpPr>
          <p:spPr>
            <a:xfrm>
              <a:off x="2016000" y="2924280"/>
              <a:ext cx="576360" cy="3168720"/>
            </a:xfrm>
            <a:custGeom>
              <a:avLst/>
              <a:gdLst>
                <a:gd name="textAreaLeft" fmla="*/ 28080 w 576360"/>
                <a:gd name="textAreaRight" fmla="*/ 548280 w 576360"/>
                <a:gd name="textAreaTop" fmla="*/ 28080 h 3168720"/>
                <a:gd name="textAreaBottom" fmla="*/ 3140640 h 3168720"/>
              </a:gdLst>
              <a:ahLst/>
              <a:rect l="textAreaLeft" t="textAreaTop" r="textAreaRight" b="textAreaBottom"/>
              <a:pathLst>
                <a:path w="21600" h="118692">
                  <a:moveTo>
                    <a:pt x="3600" y="0"/>
                  </a:moveTo>
                  <a:arcTo wR="3600" hR="3600" stAng="16200000" swAng="-5400000"/>
                  <a:lnTo>
                    <a:pt x="0" y="115092"/>
                  </a:lnTo>
                  <a:arcTo wR="3600" hR="3600" stAng="10800000" swAng="-5400000"/>
                  <a:lnTo>
                    <a:pt x="18000" y="1186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886e0">
                <a:alpha val="29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87640" y="3141720"/>
              <a:ext cx="431640" cy="3585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87640" y="3933720"/>
              <a:ext cx="431640" cy="358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087640" y="4726080"/>
              <a:ext cx="431640" cy="3585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087640" y="5518080"/>
              <a:ext cx="431640" cy="358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232000" y="3573360"/>
              <a:ext cx="144360" cy="287280"/>
            </a:xfrm>
            <a:prstGeom prst="downArrow">
              <a:avLst>
                <a:gd name="adj1" fmla="val 50000"/>
                <a:gd name="adj2" fmla="val 49751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232000" y="4365720"/>
              <a:ext cx="144360" cy="287280"/>
            </a:xfrm>
            <a:prstGeom prst="downArrow">
              <a:avLst>
                <a:gd name="adj1" fmla="val 50000"/>
                <a:gd name="adj2" fmla="val 49751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32000" y="5157720"/>
              <a:ext cx="144360" cy="287280"/>
            </a:xfrm>
            <a:prstGeom prst="downArrow">
              <a:avLst>
                <a:gd name="adj1" fmla="val 50000"/>
                <a:gd name="adj2" fmla="val 49751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2951280" y="2924280"/>
            <a:ext cx="576000" cy="3168720"/>
            <a:chOff x="2951280" y="2924280"/>
            <a:chExt cx="576000" cy="3168720"/>
          </a:xfrm>
        </p:grpSpPr>
        <p:sp>
          <p:nvSpPr>
            <p:cNvPr id="237" name=""/>
            <p:cNvSpPr/>
            <p:nvPr/>
          </p:nvSpPr>
          <p:spPr>
            <a:xfrm>
              <a:off x="2951280" y="2924280"/>
              <a:ext cx="576000" cy="3168720"/>
            </a:xfrm>
            <a:custGeom>
              <a:avLst/>
              <a:gdLst>
                <a:gd name="textAreaLeft" fmla="*/ 28080 w 576000"/>
                <a:gd name="textAreaRight" fmla="*/ 547920 w 576000"/>
                <a:gd name="textAreaTop" fmla="*/ 28080 h 3168720"/>
                <a:gd name="textAreaBottom" fmla="*/ 3140640 h 3168720"/>
              </a:gdLst>
              <a:ahLst/>
              <a:rect l="textAreaLeft" t="textAreaTop" r="textAreaRight" b="textAreaBottom"/>
              <a:pathLst>
                <a:path w="21600" h="118766">
                  <a:moveTo>
                    <a:pt x="3600" y="0"/>
                  </a:moveTo>
                  <a:arcTo wR="3600" hR="3600" stAng="16200000" swAng="-5400000"/>
                  <a:lnTo>
                    <a:pt x="0" y="115166"/>
                  </a:lnTo>
                  <a:arcTo wR="3600" hR="3600" stAng="10800000" swAng="-5400000"/>
                  <a:lnTo>
                    <a:pt x="18000" y="1187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886e0">
                <a:alpha val="29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22560" y="3141720"/>
              <a:ext cx="431280" cy="3585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022560" y="3933720"/>
              <a:ext cx="431280" cy="358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22560" y="4726080"/>
              <a:ext cx="431280" cy="3585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022560" y="5518080"/>
              <a:ext cx="431280" cy="358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166920" y="3573360"/>
              <a:ext cx="144000" cy="287280"/>
            </a:xfrm>
            <a:prstGeom prst="downArrow">
              <a:avLst>
                <a:gd name="adj1" fmla="val 50000"/>
                <a:gd name="adj2" fmla="val 49875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166920" y="4365720"/>
              <a:ext cx="144000" cy="287280"/>
            </a:xfrm>
            <a:prstGeom prst="downArrow">
              <a:avLst>
                <a:gd name="adj1" fmla="val 50000"/>
                <a:gd name="adj2" fmla="val 49875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66920" y="5157720"/>
              <a:ext cx="144000" cy="287280"/>
            </a:xfrm>
            <a:prstGeom prst="downArrow">
              <a:avLst>
                <a:gd name="adj1" fmla="val 50000"/>
                <a:gd name="adj2" fmla="val 49875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5448240" y="2924280"/>
            <a:ext cx="576360" cy="316872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3168720"/>
              <a:gd name="textAreaBottom" fmla="*/ 3140640 h 3168720"/>
            </a:gdLst>
            <a:ahLst/>
            <a:rect l="textAreaLeft" t="textAreaTop" r="textAreaRight" b="textAreaBottom"/>
            <a:pathLst>
              <a:path w="21600" h="118692">
                <a:moveTo>
                  <a:pt x="3600" y="0"/>
                </a:moveTo>
                <a:arcTo wR="3600" hR="3600" stAng="16200000" swAng="-5400000"/>
                <a:lnTo>
                  <a:pt x="0" y="115092"/>
                </a:lnTo>
                <a:arcTo wR="3600" hR="3600" stAng="10800000" swAng="-5400000"/>
                <a:lnTo>
                  <a:pt x="18000" y="1186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886e0">
              <a:alpha val="2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19880" y="3141720"/>
            <a:ext cx="431640" cy="3585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519880" y="3933720"/>
            <a:ext cx="431640" cy="358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519880" y="4726080"/>
            <a:ext cx="431640" cy="3585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519880" y="5518080"/>
            <a:ext cx="431640" cy="358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11733600">
            <a:off x="1726920" y="3487680"/>
            <a:ext cx="177840" cy="2052720"/>
          </a:xfrm>
          <a:prstGeom prst="downArrow">
            <a:avLst>
              <a:gd name="adj1" fmla="val 48509"/>
              <a:gd name="adj2" fmla="val 35322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416640" y="2924280"/>
            <a:ext cx="576360" cy="316872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3168720"/>
              <a:gd name="textAreaBottom" fmla="*/ 3140640 h 3168720"/>
            </a:gdLst>
            <a:ahLst/>
            <a:rect l="textAreaLeft" t="textAreaTop" r="textAreaRight" b="textAreaBottom"/>
            <a:pathLst>
              <a:path w="21600" h="118692">
                <a:moveTo>
                  <a:pt x="3600" y="0"/>
                </a:moveTo>
                <a:arcTo wR="3600" hR="3600" stAng="16200000" swAng="-5400000"/>
                <a:lnTo>
                  <a:pt x="0" y="115092"/>
                </a:lnTo>
                <a:arcTo wR="3600" hR="3600" stAng="10800000" swAng="-5400000"/>
                <a:lnTo>
                  <a:pt x="18000" y="1186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886e0">
              <a:alpha val="2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488280" y="3141720"/>
            <a:ext cx="431640" cy="3585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488280" y="3933720"/>
            <a:ext cx="431640" cy="358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488280" y="4726080"/>
            <a:ext cx="431640" cy="3585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488280" y="5518080"/>
            <a:ext cx="431640" cy="358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383600" y="2924280"/>
            <a:ext cx="576000" cy="316872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3168720"/>
              <a:gd name="textAreaBottom" fmla="*/ 3140640 h 3168720"/>
            </a:gdLst>
            <a:ahLst/>
            <a:rect l="textAreaLeft" t="textAreaTop" r="textAreaRight" b="textAreaBottom"/>
            <a:pathLst>
              <a:path w="21600" h="118766">
                <a:moveTo>
                  <a:pt x="3600" y="0"/>
                </a:moveTo>
                <a:arcTo wR="3600" hR="3600" stAng="16200000" swAng="-5400000"/>
                <a:lnTo>
                  <a:pt x="0" y="115166"/>
                </a:lnTo>
                <a:arcTo wR="3600" hR="3600" stAng="10800000" swAng="-5400000"/>
                <a:lnTo>
                  <a:pt x="18000" y="1187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886e0">
              <a:alpha val="2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454880" y="3141720"/>
            <a:ext cx="432000" cy="3585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454880" y="3933720"/>
            <a:ext cx="432000" cy="358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454880" y="4726080"/>
            <a:ext cx="432000" cy="3585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454880" y="5518080"/>
            <a:ext cx="432000" cy="358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16200000">
            <a:off x="7122960" y="5554080"/>
            <a:ext cx="144360" cy="28728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11733600">
            <a:off x="2653920" y="3484440"/>
            <a:ext cx="177840" cy="2052720"/>
          </a:xfrm>
          <a:prstGeom prst="downArrow">
            <a:avLst>
              <a:gd name="adj1" fmla="val 48509"/>
              <a:gd name="adj2" fmla="val 35322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16200000">
            <a:off x="6153120" y="3141720"/>
            <a:ext cx="144720" cy="287280"/>
          </a:xfrm>
          <a:prstGeom prst="downArrow">
            <a:avLst>
              <a:gd name="adj1" fmla="val 50000"/>
              <a:gd name="adj2" fmla="val 496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6153120" y="3942720"/>
            <a:ext cx="144360" cy="28728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6143400" y="4741920"/>
            <a:ext cx="144720" cy="287280"/>
          </a:xfrm>
          <a:prstGeom prst="downArrow">
            <a:avLst>
              <a:gd name="adj1" fmla="val 50000"/>
              <a:gd name="adj2" fmla="val 496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rot="16200000">
            <a:off x="6153120" y="5544720"/>
            <a:ext cx="144360" cy="28728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rot="16200000">
            <a:off x="7111800" y="3165480"/>
            <a:ext cx="144720" cy="287280"/>
          </a:xfrm>
          <a:prstGeom prst="downArrow">
            <a:avLst>
              <a:gd name="adj1" fmla="val 50000"/>
              <a:gd name="adj2" fmla="val 496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7124760" y="3957120"/>
            <a:ext cx="144360" cy="287640"/>
          </a:xfrm>
          <a:prstGeom prst="downArrow">
            <a:avLst>
              <a:gd name="adj1" fmla="val 50000"/>
              <a:gd name="adj2" fmla="val 4981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16200000">
            <a:off x="7122960" y="4773600"/>
            <a:ext cx="144720" cy="287280"/>
          </a:xfrm>
          <a:prstGeom prst="downArrow">
            <a:avLst>
              <a:gd name="adj1" fmla="val 50000"/>
              <a:gd name="adj2" fmla="val 496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4323000">
            <a:off x="6568920" y="2936880"/>
            <a:ext cx="206280" cy="1520640"/>
          </a:xfrm>
          <a:prstGeom prst="downArrow">
            <a:avLst>
              <a:gd name="adj1" fmla="val 50000"/>
              <a:gd name="adj2" fmla="val 18429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4323000">
            <a:off x="6576840" y="4543560"/>
            <a:ext cx="206640" cy="1520640"/>
          </a:xfrm>
          <a:prstGeom prst="downArrow">
            <a:avLst>
              <a:gd name="adj1" fmla="val 50000"/>
              <a:gd name="adj2" fmla="val 18397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4323000">
            <a:off x="6572160" y="3717720"/>
            <a:ext cx="206280" cy="1520640"/>
          </a:xfrm>
          <a:prstGeom prst="downArrow">
            <a:avLst>
              <a:gd name="adj1" fmla="val 50000"/>
              <a:gd name="adj2" fmla="val 18429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195920" y="6076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116440" y="6078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24720" y="609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561640" y="609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545520" y="6094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469640" y="6108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95600" y="6110280"/>
            <a:ext cx="1992240" cy="455760"/>
          </a:xfrm>
          <a:custGeom>
            <a:avLst/>
            <a:gdLst>
              <a:gd name="textAreaLeft" fmla="*/ 497880 w 1992240"/>
              <a:gd name="textAreaRight" fmla="*/ 1494360 w 1992240"/>
              <a:gd name="textAreaTop" fmla="*/ 0 h 455760"/>
              <a:gd name="textAreaBottom" fmla="*/ 456120 h 4557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S E-Lern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22C15-A45B-4FAD-8006-80E53975FD4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equenzieru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Für konkrete Sequenzierungsaufgaben wird man sich selten ausschließlich an eine Vorgehensweise halt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Die Frage ist dann eher, wie weit ein Thema zu vertiefen ist, bevor zum nächsten gewechselt wir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S E-Lern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2A10D-8289-49CF-B8FF-2CD835FB477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equenzieru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ür Sequenzierung ist wichtig, ob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ufgaben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der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Domänenkompetenz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verleihen werden soll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Aufgabenkompetenz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ernender soll zu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xperten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einer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ufgab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werd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z.B. Bedienung einer Maschine, Verkauf einer Ware, ..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Domänenkompetenz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ernender soll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Kenntniss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n einem Wissensbereich erhalten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ohn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uf eine konkrete Aufgabe gebunden zu se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z.B. Funktionsprinzip einer Maschine, betriebswirtschaftliches Rechnungswesen, ..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S E-Lern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8A5A6-4F8C-497A-A762-1D192682E5D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equenzieru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i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Domänenkompetenz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nochmalige Unterscheidung zwische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grifflicher Domänenkompetenz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oretischer Domänenkompetenz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aktisch nicht trennbar, aber bei der Sequenzierung sollte berücksichtigt werden, welche Art bei dem zu lehrenden Wissen den größeren Teil einnimm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S E-Lern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18F1C-5684-4082-A2CD-A76A6B51C08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5e5ff"/>
                </a:solidFill>
                <a:latin typeface="Garamond"/>
              </a:rPr>
              <a:t>Sequenzierung - Elaborationstheori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Ausgehend von diesen Kompetenzarten,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kennt die Elaborationstheorie die Sequenzierungsmethode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Vereinfachte-Bedingungen-Sequenz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Begriffliche Elaborationssequenz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Theoretische Elaborationssequenz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S E-Lern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9065A-F261-41BC-841C-FC2C8044D3F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5e5ff"/>
                </a:solidFill>
                <a:latin typeface="Garamond"/>
              </a:rPr>
              <a:t>Begriffliche Elaborationssequenz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Es ist eine große Anzahl thematisch zusammenhängender </a:t>
            </a:r>
            <a:r>
              <a:rPr b="1" lang="de-DE" sz="3200" spc="-1" strike="noStrike">
                <a:solidFill>
                  <a:srgbClr val="ffffff"/>
                </a:solidFill>
                <a:latin typeface="Garamond"/>
              </a:rPr>
              <a:t>Begriffe</a:t>
            </a: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 zu </a:t>
            </a:r>
            <a:r>
              <a:rPr b="1" lang="de-DE" sz="3200" spc="-1" strike="noStrike">
                <a:solidFill>
                  <a:srgbClr val="ffffff"/>
                </a:solidFill>
                <a:latin typeface="Garamond"/>
              </a:rPr>
              <a:t>lehren</a:t>
            </a: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erst sollten die allgemeineren, dann immer spezieller werdende Begriffe gelehrt werd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mit den Begriffen verbundene Informationen und nötige Fertigkeiten sollten mit den zugehörigen Begriffen zusammen gelehrt werd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S E-Lern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3FFF8-0308-449B-B085-95EDB4FB2A3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egmentierung und Sequenzierung von Lehrstoff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Garamond"/>
              </a:rPr>
              <a:t>Problematik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umfangreichen Lehrstoff in Abschnitte unterteil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Reihenfolge der Abschnitte bestim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Dieses Problem stellt sich sowohl bei Konzeption von Kursen als auch einzelner Einheit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S E-Lern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81C9C-47DE-4827-B35B-0140F65605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5e5ff"/>
                </a:solidFill>
                <a:latin typeface="Garamond"/>
              </a:rPr>
              <a:t>Begriffliche Elaborationssequenz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inige Begriffe und zugehörige Informationen zu Lernepisoden zusammenfass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uf Größe dieser Lernepisoden achten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zu klei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Lernprozess wird ständig unterbroch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zu groß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Zusammenfassen wird problematisch, Zusammenspiel der Episoden schwerer nachvollziehba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nn für gewisse Begriffe die Reihenfolge der Abarbeitung nicht zwingend gegeben ist, sollte Lernender die Abfolge beeinflussen könn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S E-Lern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98502-AEEB-46D7-AF99-89317167983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5e5ff"/>
                </a:solidFill>
                <a:latin typeface="Garamond"/>
              </a:rPr>
              <a:t>Theoretische Elaborationssequenz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s sind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inzipie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/zusammenhängende Aussagen zu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ehre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 (z.B. Stoffe aus Biologie, Physik, Wirtschaf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inzipien unterscheidbar in allgemeine und spezifische Prinzipi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ft sind allgemeine Prinzipien leichter zu erlernen als die spezifischen (nicht wie bei Begriffen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Spiralsequenz empfohlen (bei linear Prinzip würde Thema unmittelbar spezialisiert werden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S E-Lern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A8311-05B8-4585-AA89-30394AD1505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5e5ff"/>
                </a:solidFill>
                <a:latin typeface="Garamond"/>
              </a:rPr>
              <a:t>Theoretische Elaborationssequenz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usätzliche Informationen neben den konkreten Prinzipien (Exkurse, Lerntechniken, ...) zusammen mit den Prinzipien lehren, zu denen sie die größte Zugehörigkeit habe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 entstehen auch hier Lernepisod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usammenhang behalten durch Zusammenfassung und Rückblic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rnender sollte wie bei begrifflicher Sequenz die Abfolge beeinflussen können, falls diese nicht zwingend gegeben i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S E-Lern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D79B2-3565-49B3-8875-FE898499440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5e5ff"/>
                </a:solidFill>
                <a:latin typeface="Garamond"/>
              </a:rPr>
              <a:t>Vereinfachte-Bedingungen-Sequenzierung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Ziel ist zum einen das Bilden von </a:t>
            </a:r>
            <a:r>
              <a:rPr b="1" lang="de-DE" sz="3200" spc="-1" strike="noStrike">
                <a:solidFill>
                  <a:srgbClr val="ffffff"/>
                </a:solidFill>
                <a:latin typeface="Garamond"/>
              </a:rPr>
              <a:t>Experten</a:t>
            </a: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 für gewisse </a:t>
            </a:r>
            <a:r>
              <a:rPr b="1" lang="de-DE" sz="3200" spc="-1" strike="noStrike">
                <a:solidFill>
                  <a:srgbClr val="ffffff"/>
                </a:solidFill>
                <a:latin typeface="Garamond"/>
              </a:rPr>
              <a:t>Aufgaben</a:t>
            </a: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Zum anderen ist diese Sequenz hilfreich, um eine Abfolge von Handlungsschritten zum Lösen prozeduraler Aufgaben zu finde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S E-Lern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2D2B6-7008-40C8-8A4F-5F00DFA6B75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5e5ff"/>
                </a:solidFill>
                <a:latin typeface="Garamond"/>
              </a:rPr>
              <a:t>Vereinfachte-Bedingungen-Sequenzierung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00"/>
                </a:solidFill>
                <a:latin typeface="Garamond"/>
              </a:rPr>
              <a:t>Aufgabenexpertiese vermitteln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Das Hauptziel ist es zu Lehren, wie die Aufgaben insgesamt gelöst werden müsse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Unter welchen Bedingungen lässt sich die Aufgabe am einfachsten lösen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diese einfachste Version der Aufgabe wird komplett vermittel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danach werden die Bedingungen immer schwieriger gewählt und komplexere Versionen der Aufgabe gebilde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sowohl die leichten als auch die schwierigeren Versionen sind vollständige realistische Aufgab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der Lernende soll die Beziehungen und Veränderungen zwischen den Aufgabenversionen gezeigt bekomm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S E-Lern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55B3B-4ACA-498D-A66E-18A2B428A11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5e5ff"/>
                </a:solidFill>
                <a:latin typeface="Garamond"/>
              </a:rPr>
              <a:t>Vereinfachte-Bedingungen-Sequenzierung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für prozedurale Aufgabe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das Hauptziel liegt im Lehren der auszuführenden Schrit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Schritte identifizier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für heuristische Aufgabe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das Hauptziel liegt im Lehren der Prinzipi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Experte kann sich nicht mit Schritten befass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Prinzipien identifizier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S E-Lern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29606-D3EB-4EF0-ABAF-B2EAA1792C8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5e5ff"/>
                </a:solidFill>
                <a:latin typeface="Garamond"/>
              </a:rPr>
              <a:t>Vereinfachte-Bedingungen-Sequenzierung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Für Vereinfachte-Bedingungen-Sequenzierung sind die folgenden Schritte auszuführe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Einstiegsaufgabe find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Elabo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Das Hauptmerkmal der Einstiegsaufgabe ist, dass sie unter vereinfachten Bedingungen gelöst wir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Die Elaboration (Ausarbeitung) stellt das Finden immer schwierigerer Aufgabenversionen dar; die vereinfachten Bedingungen werden somit ständig reduzier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S E-Lern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E5433-BBDC-4C7D-A06E-616DAC64015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5e5ff"/>
                </a:solidFill>
                <a:latin typeface="Garamond"/>
              </a:rPr>
              <a:t>Vereinfachte-Bedingungen-Sequenzierung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225520"/>
            <a:ext cx="4038480" cy="42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instiegsaufgab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ollständig (keine Teilaufgab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infa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litätsna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ypis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48320" y="2225520"/>
            <a:ext cx="4038480" cy="42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Elabo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vollständig (keine Teilaufgab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schwieriger als die vorangehende Aufgab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mindestens so realitätsna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möglichst ebenso typisch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1609560"/>
            <a:ext cx="82296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rkmale d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S E-Lerning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6CE5D-29A2-49D3-95E5-BAE4F3793EE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5e5ff"/>
                </a:solidFill>
                <a:latin typeface="Garamond"/>
              </a:rPr>
              <a:t>Vergleich: hierarchische Sequenzierung - VB-Sequenzierung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457200" y="1600200"/>
          <a:ext cx="8229600" cy="4363920"/>
        </p:xfrm>
        <a:graphic>
          <a:graphicData uri="http://schemas.openxmlformats.org/drawingml/2006/table">
            <a:tbl>
              <a:tblPr/>
              <a:tblGrid>
                <a:gridCol w="2286000"/>
                <a:gridCol w="3200400"/>
                <a:gridCol w="2743200"/>
              </a:tblGrid>
              <a:tr h="75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hierarchische Sequenzierung</a:t>
                      </a: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VB Sequenzieru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chemat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rundide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om Einfachen zum Komplexen (Teilfertigkeiten – umfassende Fertigkeite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om Einfachen zum Komplexen (einfache Aufgaben – Komplexe Aufgabe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onzep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ufgabenanalyse und Sequenzierung separ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ufgabenanalyse und Sequenzierung simult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"/>
          <p:cNvSpPr/>
          <p:nvPr/>
        </p:nvSpPr>
        <p:spPr>
          <a:xfrm>
            <a:off x="3701880" y="2403360"/>
            <a:ext cx="1311480" cy="99720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rot="10800000">
            <a:off x="6649560" y="2411280"/>
            <a:ext cx="1311480" cy="99720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S E-Lern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C0456-167D-4152-93C2-67CF474055C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5e5ff"/>
                </a:solidFill>
                <a:latin typeface="Garamond"/>
              </a:rPr>
              <a:t>Quell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Kompendium E-Learning (Niegemann 2003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Didaktische Organisation von Lehr- und Lernprozessen (Götz, Häfner 199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Lehren lernen (Hannappel 1996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S E-Lern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2C29A-3CA7-44A3-912D-C1B396868FE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egmentieru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or Festlegung einer Reihenfolge für Lehrstoff müssen Abschnitte/Segmente gebildet werd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ientierung an Struktur des Inhalts nicht immer angemessen; Sachlogik nicht immer gegeb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hrstoff meist in gegebenen Quellen bereits segmentiert, ab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lten passe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blematisch bei mehreren Quell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ternative Segmentierungsmöglichkeiten such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S E-Lern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49B48-1B24-466C-A4B1-3446A87C11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egmentieru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Segmente möglichst klein wähle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leichter sequenzierb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Wiederverwendbarkei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zu kleine Segmente sind dabei nicht weiter problematisch, da sie ohnehin wieder zusammengefügt werd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S E-Lern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67445-C2E9-440C-B418-7F96347C9E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egmentieru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Garamond"/>
              </a:rPr>
              <a:t>Lernobjekt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kleinste sinnvolle Lerngegenstän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bei E-Lerning z.B.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Lehrtex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Bil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Vide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Simulationsprogram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Aufgabe (Tes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S E-Lern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2A061-AFAA-44A2-ADBB-23A42D6C07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5e5ff"/>
                </a:solidFill>
                <a:latin typeface="Garamond"/>
              </a:rPr>
              <a:t>Lernzielkategorien nach Gagn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on einem bestimmten Lehrziel ausgehend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Konstruktion einer Hierarchie von Lernvoraussetzu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ategorisierung der zu vermittelnden Fähigkeiten erforderli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195840" y="1343160"/>
            <a:ext cx="305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Das Ur-Model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S E-Lern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23C8F-1E98-4BAE-ABA0-79BBDB71AB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egmentieru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 Kontext traditioneller Didaktik bedeutet Lehren die Organisation von Lernprozessen, d.h. das Zusammenstellen einer zeitlichen Abfolge von unterscheidbaren Lernphase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rtikulationsschemata (Grell &amp; Grell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s Ur-Mode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S E-Lern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385A3-1024-4085-96E7-B8402DC33A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16:30:00Z</dcterms:created>
  <dc:creator>a</dc:creator>
  <dc:description/>
  <dc:language>en-US</dc:language>
  <cp:lastModifiedBy>a</cp:lastModifiedBy>
  <dcterms:modified xsi:type="dcterms:W3CDTF">2004-11-30T16:11:15Z</dcterms:modified>
  <cp:revision>39</cp:revision>
  <dc:subject/>
  <dc:title>Ordnung der Lernziele - kognitiv</dc:title>
</cp:coreProperties>
</file>