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A0A0-668D-46CE-962E-F66401678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7445-87C6-4441-9C96-571FA762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EEBB-09DF-4969-A046-D7E07539D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3DB5-ABB0-4951-BDC5-4EE6DC9EC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1C5A-F13B-4571-9E2E-D258982E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0AF6-67F7-497A-B834-3F829DBB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E8E6-602A-4435-99F6-7D281C3B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75CB-9E96-48EE-AE06-FF0E8ED4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82C1-A8F0-43C6-9935-5759206C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DC65-4F41-40E7-9140-3C898682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479A-28E1-45B8-8AA6-9D1AB9F9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7332-0ACC-41F2-9C78-88133D8D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114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obias Krumb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B080-7C6C-42AF-8C0B-0890466931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609480" y="14479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18288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und Datenban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obias Krumb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5AC2-DBC7-43FF-B217-7CBC8E2773FB}" type="slidenum">
              <a:t>1</a:t>
            </a:fld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XML Parser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xmlparser_java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7772400" cy="3336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62120" y="2155680"/>
            <a:ext cx="55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L Transformation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4774-4688-4692-A2F8-82F256198509}" type="slidenum">
              <a:t>10</a:t>
            </a:fld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XML Parser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amespace Support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Validating and Non-Validating Mode Support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OM and SAX API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vent-ba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ree-ba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E1E1-5C59-4961-93AB-814389CB3BBC}" type="slidenum">
              <a:t>11</a:t>
            </a:fld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XML Parser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-based (SA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?xml version="1.0"?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EMPLIST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EMP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ENAME&gt;MARTIN&lt;/ENAM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/EMP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EMP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ENAME&gt;SCOTT&lt;/E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/EMP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/EMPLIST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81480" y="2286000"/>
            <a:ext cx="3200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rser liefert folgende Event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Unicode MS"/>
              </a:rPr>
              <a:t>start docu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Unicode MS"/>
              </a:rPr>
              <a:t>start element: EMPLI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Unicode MS"/>
              </a:rPr>
              <a:t>start element: EM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Unicode MS"/>
              </a:rPr>
              <a:t>start element: ENA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Unicode MS"/>
              </a:rPr>
              <a:t>characters: MART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Unicode MS"/>
              </a:rPr>
              <a:t>end element: EM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Unicode MS"/>
              </a:rPr>
              <a:t>start element: EM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Unicode MS"/>
              </a:rPr>
              <a:t>start element: ENA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Unicode MS"/>
              </a:rPr>
              <a:t>characters: SCOT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Unicode MS"/>
              </a:rPr>
              <a:t>end element: EM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Unicode MS"/>
              </a:rPr>
              <a:t>end element: EMPLI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Unicode MS"/>
              </a:rPr>
              <a:t>end document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B3CC-4614-453E-BB4E-E87F4135A8BF}" type="slidenum">
              <a:t>12</a:t>
            </a:fld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XML Parsers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ree-based (D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&lt;?xml version="1.0"?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&lt;EMPLIST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&lt;EMP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&lt;ENAME&gt;MARTIN&lt;/ENAM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&lt;/EMP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&lt;EMP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&lt;ENAME&gt;SCOTT&lt;/E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&lt;/EMP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&lt;/EMPLIST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emp_DOM" descr=""/>
          <p:cNvPicPr/>
          <p:nvPr/>
        </p:nvPicPr>
        <p:blipFill>
          <a:blip r:embed="rId1"/>
          <a:stretch/>
        </p:blipFill>
        <p:spPr>
          <a:xfrm>
            <a:off x="5257800" y="2743200"/>
            <a:ext cx="3121200" cy="308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F4B3-087C-430A-85EC-AD9479389C8B}" type="slidenum">
              <a:t>13</a:t>
            </a:fld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XML Class Generator for Ja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xmlclassgen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7772400" cy="298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BBCF-5657-4006-812F-4EC7D7726C91}" type="slidenum">
              <a:t>14</a:t>
            </a:fld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XML Transviewer Java Beans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OM Builder Bea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XML Source Viewer Bea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XML Tree Viewer Bea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XSL Transformer Bea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0FB7-7B5B-4104-9C0B-A0EA5C5BB407}" type="slidenum">
              <a:t>15</a:t>
            </a:fld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ML SQL Utility für Java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ava Utility bestehend aus verschieden Kl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icht SQL-Anfrage an die Datenbank weiter und liefert das Ergebnis als XML-Dokument als Text oder DOM zurü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chreibt XML-Daten in Datenbanktab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9F7D-C53E-4256-962A-2A876B28CA40}" type="slidenum">
              <a:t>16</a:t>
            </a:fld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ML SQL Utility für Java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sql_util_read_db" descr=""/>
          <p:cNvPicPr/>
          <p:nvPr/>
        </p:nvPicPr>
        <p:blipFill>
          <a:blip r:embed="rId1"/>
          <a:stretch/>
        </p:blipFill>
        <p:spPr>
          <a:xfrm>
            <a:off x="1600200" y="2603520"/>
            <a:ext cx="6095880" cy="3624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5800" y="19810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zeuge XML aus Anfrageergeb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B741-CEAD-4F80-95BF-81774407B329}" type="slidenum">
              <a:t>17</a:t>
            </a:fld>
          </a:p>
        </p:txBody>
      </p:sp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ML SQL Utility für Java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62120" y="1981080"/>
          <a:ext cx="8001000" cy="3699000"/>
        </p:xfrm>
        <a:graphic>
          <a:graphicData uri="http://schemas.openxmlformats.org/drawingml/2006/table">
            <a:tbl>
              <a:tblPr/>
              <a:tblGrid>
                <a:gridCol w="3733560"/>
                <a:gridCol w="4267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nba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l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 level Elem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ar val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e mit text-only Inh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kttyp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e mit Attributen, erscheinen als Sub-Elem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e von Elemen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ktreferenz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tial constrain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ML IDREF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53F2-938C-40D6-89DC-73D4C02F4782}" type="slidenum">
              <a:t>18</a:t>
            </a:fld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ML SQL Utility für Java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isp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QL-Anf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SELECT EMPNO, ENAME FROM EMP WHERE EMPNO = 7654;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on XML SQL Utility erstellte XML-D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&lt;?xml version="1.0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&lt;ROWSET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&lt;ROW id="1"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              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&lt;EMPNO&gt;7654&lt;/EMPNO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                      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&lt;ENAME&gt;MARTIN&lt;/ENAM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&lt;/ROW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       </a:t>
            </a: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&lt;/ROWS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BF45-FDE6-4BB3-AE70-4B247954EB38}" type="slidenum">
              <a:t>19</a:t>
            </a:fld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Überbl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XML und Datenban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XML und Ora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racle8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nt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ML Parsers and XSL Processors (Java, C, C++, and PL/SQ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ML Class Generators (Java and C++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ML Transviewer B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ML SQL Utility for Ja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SQL Servl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A36A-D9FA-4C9C-8054-1AD6819801BC}" type="slidenum">
              <a:t>2</a:t>
            </a:fld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ML SQL Utility für Java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üge XML zu Datenbanktabelle hin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sql_util_write_db" descr=""/>
          <p:cNvPicPr/>
          <p:nvPr/>
        </p:nvPicPr>
        <p:blipFill>
          <a:blip r:embed="rId1"/>
          <a:stretch/>
        </p:blipFill>
        <p:spPr>
          <a:xfrm>
            <a:off x="1828800" y="2743200"/>
            <a:ext cx="5407200" cy="139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F0CB-25E0-4115-A903-7ED312F90DF2}" type="slidenum">
              <a:t>20</a:t>
            </a:fld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XSQL Serv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xsql_servlet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5943600" cy="463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8D2A-C164-4AA1-939B-4D5C29970B19}" type="slidenum">
              <a:t>21</a:t>
            </a:fld>
          </a:p>
        </p:txBody>
      </p:sp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(http://technet.oracle.com/tech/xm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onald Bourr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http://www.rpbourred.com/xml/XMLAndDatabase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I-Workshop „Internet-Datenbanken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7583-AD22-45D4-B3C9-DBB50067513E}" type="slidenum">
              <a:t>22</a:t>
            </a:fld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Dokument – XML Da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ata-cen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gelmäßige Struktu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ein gegliederte Dat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aum vermischte Inhalt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ocument-cen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nregelmäßige Struk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rob strukturierte Dat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ermischte Inhal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87D9-A79B-4003-863E-DB4B691CC9E7}" type="slidenum">
              <a:t>3</a:t>
            </a:fld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und rel. Datenban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ünde für das Speichern von XML in rel. Datenban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tenbanken bieten Zuverlässigkeit und Transaktionssicherh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rößter Teil aller Business-Daten in relationalen Datenbanksyste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bl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TD zum generieren von relationalen Schemata ist zwingend erforderl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omplexität der Element-Spezifikation in der DT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onflikt zwischen der 2-Ebenen-Natur relationaler Schemata (Tabelle-Attrib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hrwertige Attribute und Rekurs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öhere Mächtigkeit und Flexibilität der Typsystems Rel. Datenban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236D-6C0C-47EC-9C0B-25397889A51E}" type="slidenum">
              <a:t>4</a:t>
            </a:fld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-cent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ie kann man Dokumentstruktur auf Datenbankstruktur abbild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mplate-dr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-driv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bellen-Mode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ten-spezifische Objekt Mode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D54D-71C2-433A-BA98-C33413C1830B}" type="slidenum">
              <a:t>5</a:t>
            </a:fld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Generiere relationales Schema von DT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70866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uc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ite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m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ite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Auto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akespe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Autor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Kapite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Absatz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Absatz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Absatz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Absatz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Kapite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uc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029200" y="2514600"/>
          <a:ext cx="3809880" cy="746280"/>
        </p:xfrm>
        <a:graphic>
          <a:graphicData uri="http://schemas.openxmlformats.org/drawingml/2006/table">
            <a:tbl>
              <a:tblPr/>
              <a:tblGrid>
                <a:gridCol w="1164960"/>
                <a:gridCol w="932040"/>
                <a:gridCol w="1712880"/>
              </a:tblGrid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ch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ml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kespe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5181480" y="4343400"/>
          <a:ext cx="3353040" cy="109548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pitel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ch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at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 flipH="1" flipV="1">
            <a:off x="5486400" y="3276360"/>
            <a:ext cx="13716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981080"/>
            <a:ext cx="426708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&lt;!ELEMENT buch (titel,autor,(kapitel+)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&lt;!ELEMENT kapitel (absatz+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&lt;!ELEMENT titel (#PCDATA)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&lt;!ELEMENT autor (#PCDATA)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&lt;!ELEMENT absatz (#PCDATA)&gt;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C5DC-1C2E-4471-B778-106F9B6E6041}" type="slidenum">
              <a:t>6</a:t>
            </a:fld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Überblick O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cle8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Parsers and XSL Processors (Java, C, C++, and PL/SQL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Class Generators (Java and C++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Transviewer B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SQL Utility for Ja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QL Servl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F9FF-9CB2-422C-9FC4-5EAB3BB2F911}" type="slidenum">
              <a:t>7</a:t>
            </a:fld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racle8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i un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inter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d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 Arten zum speichern von XML-Dokumenten in Ora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ML-Dokument als Dok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ML-Dokument als D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peichere Attribute von Elementen in einer relationalen Tabelle und Definition von Objekt-Views zum erfassen der Struktur der XML-Elem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peichere die strukturierten XML-Elemente in einer Objekt Tab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ombiniere XML als Dokument und Daten unter Benutzung von Ansi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60F5-C2BE-4737-85F3-806AD0341C7E}" type="slidenum">
              <a:t>8</a:t>
            </a:fld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XML Parser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xmlparsers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7772400" cy="261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4DDF-8F89-400B-B817-236C26E97B74}" type="slidenum">
              <a:t>9</a:t>
            </a:fld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30T19:12:16Z</dcterms:created>
  <dc:creator>Andreas Leicht</dc:creator>
  <dc:description/>
  <dc:language>en-US</dc:language>
  <cp:lastModifiedBy>tKrumbe</cp:lastModifiedBy>
  <dcterms:modified xsi:type="dcterms:W3CDTF">2000-12-06T07:52:59Z</dcterms:modified>
  <cp:revision>31</cp:revision>
  <dc:subject/>
  <dc:title>Kein Folientitel</dc:title>
</cp:coreProperties>
</file>