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40C-BC68-4663-8E09-64C3BFBB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D09-6BE5-4010-BB59-7DF2068C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8DB-2F92-47CD-AE4F-C6F2FC66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EB6-9CCA-4D98-9190-58D03F6C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4C3-DE21-4613-9922-DA2EDB24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F73-6443-49FD-9734-D0A2E132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399-0482-4A65-BB1F-C80ED523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326-8979-486E-BDF0-A5BFF766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E52-E0AC-4025-9E98-DB4F1B6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8C2-6A97-4727-AF56-4E85E56F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7AE-6913-4219-8C7A-79811E7B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BA4-4F4C-4F90-A44B-3ED2E01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obias Krumb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C0BA-5255-4226-8FFF-6C06C85737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609480" y="14479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und Daten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bias Krumb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FB4-7A4E-4417-AD88-3D7748FD7B77}" type="slidenum">
              <a:t>1</a:t>
            </a:fld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xmlparser_java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772400" cy="3336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2155680"/>
            <a:ext cx="55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L Transformat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E0A-B764-4829-B26E-B95A742EACFD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mespace Suppor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alidating and Non-Validating Mode Suppor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 and SAX AP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ent-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e-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86D-32D5-4134-8D89-33D5B46422AA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-based (SA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?xml version="1.0"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MPLIS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NAME&gt;MARTIN&lt;/E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/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NAME&gt;SCOTT&lt;/E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/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/EMPLIST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228600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ser liefert folgende Ev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docu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MPL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characters: MART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end element: E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characters: SCOT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end element: E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end element: EMPL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end document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192-40B4-4C96-8C64-FC0AE26B7E5A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ee-based (D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?xml version="1.0"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MPLIS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NAME&gt;MARTIN&lt;/E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NAME&gt;SCOTT&lt;/E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EMPLIST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mp_DOM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312120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832-7FAC-469F-9B46-7798685F24BF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XML Class Generator for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xmlclassgen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772400" cy="29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0D4-86F6-455A-92D5-708B27005670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ML Transviewer Java Bean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 Builder Be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ML Source Viewer Be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ML Tree Viewer Be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SL Transformer Be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C27-9270-40BC-9ED4-FB5CF888D7A0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ava Utility bestehend aus verschieden Kl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icht SQL-Anfrage an die Datenbank weiter und liefert das Ergebnis als XML-Dokument als Text oder DOM zurü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chreibt XML-Daten in Datenbanktab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31D-A5CD-4583-A94D-BB4046F73323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ql_util_read_db" descr=""/>
          <p:cNvPicPr/>
          <p:nvPr/>
        </p:nvPicPr>
        <p:blipFill>
          <a:blip r:embed="rId1"/>
          <a:stretch/>
        </p:blipFill>
        <p:spPr>
          <a:xfrm>
            <a:off x="1600200" y="2603520"/>
            <a:ext cx="6095880" cy="3624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1981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zeuge XML aus Anfrageergeb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77B-2355-4BDA-930D-6AE1C3855100}" type="slidenum">
              <a:t>17</a:t>
            </a:fld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981080"/>
          <a:ext cx="8001000" cy="3699000"/>
        </p:xfrm>
        <a:graphic>
          <a:graphicData uri="http://schemas.openxmlformats.org/drawingml/2006/table">
            <a:tbl>
              <a:tblPr/>
              <a:tblGrid>
                <a:gridCol w="3733560"/>
                <a:gridCol w="426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n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l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level 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e mit text-only Inh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ty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e mit Attributen, erscheinen als Sub-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 von Elemen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referenz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tial constra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ML IDRE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832-C919-4ADD-9E8B-D761B0B250AA}" type="slidenum">
              <a:t>18</a:t>
            </a:fld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QL-Anf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ELECT EMPNO, ENAME FROM EMP WHERE EMPNO = 7654;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XML SQL Utility erstellte XML-D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ROWSE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ROW id="1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MPNO&gt;7654&lt;/EMPNO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NAME&gt;MARTIN&lt;/E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ROW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ROWS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724-5462-4F17-A151-435CEC1150DD}" type="slidenum">
              <a:t>19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und Datenb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und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acle8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 Parsers and XSL Processors (Java, C, C++, and PL/SQ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 Class Generators (Java and C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 Transviewer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 SQL Utility for 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SQL Serv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C98-B2FB-4156-B765-7CE765D4D19D}" type="slidenum">
              <a:t>2</a:t>
            </a:fld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üge XML zu Datenbanktabelle hin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sql_util_write_db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07200" cy="13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8B1-47D3-464B-B45D-2EA8C3313125}" type="slidenum">
              <a:t>20</a:t>
            </a:fld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XSQL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xsql_servlet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46B-EA91-4EAF-87B3-E7E414DE8C2A}" type="slidenum">
              <a:t>21</a:t>
            </a:fld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http://technet.oracle.com/tech/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nald Bour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www.rpbourred.com/xml/XMLAndDatabase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I-Workshop „Internet-Datenbanke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B0B-DDA7-4A3D-8AFC-59B483F7BA58}" type="slidenum">
              <a:t>2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Dokument – XML 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-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gelmäßige Struktu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in gegliederte Da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um vermischte Inhal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cument-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regelmäßige 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b strukturierte Da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mischte Inhal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041-CF3A-4DDE-8DBD-ACCC7E4FFE41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und rel. Daten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ünde für das Speichern von XML in rel. Daten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nbanken bieten Zuverlässigkeit und Transaktionssicher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ößter Teil aller Business-Daten in relationalen Datenbanksyst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TD zum generieren von relationalen Schemata ist zwingend erforder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mplexität der Element-Spezifikation in der 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nflikt zwischen der 2-Ebenen-Natur relationaler Schemata (Tabelle-Attrib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hrwertige Attribute und Reku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öhere Mächtigkeit und Flexibilität der Typsystems Rel. Datenba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11C-EAE7-4323-8FB8-C81898094F72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-cent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e kann man Dokumentstruktur auf Datenbankstruktur abbild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mplate-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-dri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ellen-Mod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en-spezifische Objekt Mod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410-B69E-4504-BA6F-23C59A3AED02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Generiere relationales Schema von DT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70866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u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m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it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ut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kesp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utor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Kapit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bsatz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bsatz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bsatz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bsatz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Kapit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u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29200" y="2514600"/>
          <a:ext cx="3809880" cy="746280"/>
        </p:xfrm>
        <a:graphic>
          <a:graphicData uri="http://schemas.openxmlformats.org/drawingml/2006/table">
            <a:tbl>
              <a:tblPr/>
              <a:tblGrid>
                <a:gridCol w="1164960"/>
                <a:gridCol w="932040"/>
                <a:gridCol w="171288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h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kespe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81480" y="4343400"/>
          <a:ext cx="3353040" cy="109548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h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 flipV="1">
            <a:off x="5486400" y="327636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981080"/>
            <a:ext cx="426708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buch (titel,autor,(kapitel+)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kapitel (absatz+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titel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autor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absatz (#PCDATA)&g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C1E-E3CD-4BD7-B075-9BF479A3555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blick O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Parsers and XSL Processors (Java, C, C++, and PL/SQ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Class Generators (Java and C++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Transviewer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QL Utility for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QL Serv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DC9-90F1-4AEB-A4A6-38A953327A0F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acle8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 u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Arten zum speichern von XML-Dokumenten in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ML-Dokument als Dok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ML-Dokument als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ichere Attribute von Elementen in einer relationalen Tabelle und Definition von Objekt-Views zum erfassen der Struktur der XML-El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ichere die strukturierten XML-Elemente in einer Objekt Tab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iere XML als Dokument und Daten unter Benutzung von Ans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A58-8731-4F2C-9DB8-8D157CF50DC9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xmlparsers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1E7-583C-4E41-8EB1-CE5E9BFB97F9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9:12:16Z</dcterms:created>
  <dc:creator>Andreas Leicht</dc:creator>
  <dc:description/>
  <dc:language>en-US</dc:language>
  <cp:lastModifiedBy>tKrumbe</cp:lastModifiedBy>
  <dcterms:modified xsi:type="dcterms:W3CDTF">2000-12-06T07:51:32Z</dcterms:modified>
  <cp:revision>31</cp:revision>
  <dc:subject/>
  <dc:title>Kein Folientitel</dc:title>
</cp:coreProperties>
</file>