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AAC-6359-4948-8628-BAA773D0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777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0920" y="3782520"/>
            <a:ext cx="7777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BC5-8270-4CA8-9A8D-DFBC92EC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6120" y="141264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920" y="378252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6120" y="378252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604-EB47-41B4-BDB1-424277B4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2503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412640"/>
            <a:ext cx="2503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9800" y="1412640"/>
            <a:ext cx="2503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0920" y="3782520"/>
            <a:ext cx="2503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782520"/>
            <a:ext cx="2503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9800" y="3782520"/>
            <a:ext cx="2503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B67-ACC4-47A3-877A-F5009BD4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9F2D-4510-4DB1-B143-E0AB8BB0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0920" y="141264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88C7-E945-4914-B8B5-4D5A2779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466C-4203-495A-AF02-9E00FC16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3795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6120" y="1412640"/>
            <a:ext cx="3795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6EE6-45DF-4A21-AB91-DEFD0280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B311-2960-4E0F-A2FE-AE7A496B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1280" y="620640"/>
            <a:ext cx="7772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B447-F6B2-40C9-81C6-21CBF1AC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6120" y="1412640"/>
            <a:ext cx="3795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0920" y="378252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FA5D-D48E-417D-A5E7-90BA25B8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0920" y="141264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495-6DF7-4594-BAAC-A07C7DF1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3795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6120" y="141264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6120" y="378252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531B-9844-46E7-B654-23FDBEA8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6120" y="141264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920" y="3782520"/>
            <a:ext cx="7777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69AC-B407-47F5-A7DF-DBDA2697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777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0920" y="3782520"/>
            <a:ext cx="7777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E08B-5E47-4FF1-B844-40099CBD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6120" y="141264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920" y="378252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6120" y="378252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DB96-1C0A-466B-9FC1-F45F0CEA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2503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0360" y="1412640"/>
            <a:ext cx="2503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9800" y="1412640"/>
            <a:ext cx="2503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0920" y="3782520"/>
            <a:ext cx="2503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0360" y="3782520"/>
            <a:ext cx="2503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9800" y="3782520"/>
            <a:ext cx="2503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547E-1179-42B1-BC6D-ED30BDF5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A74-67D2-4DAE-BB2B-9C31B280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3795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6120" y="1412640"/>
            <a:ext cx="3795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A98-CF31-4C99-BA8E-BA41DA2F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2F5-EB44-4658-8039-C34F589D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11280" y="620640"/>
            <a:ext cx="7772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5B6-176F-47BA-B320-FE2DB98E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6120" y="1412640"/>
            <a:ext cx="3795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0920" y="378252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72F-6D73-4982-B4C4-EC1B263C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3795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6120" y="141264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6120" y="378252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EFA-0F55-4EF1-B5AB-B5C3749F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6120" y="1412640"/>
            <a:ext cx="3795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0920" y="3782520"/>
            <a:ext cx="7777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71B-DAF3-436F-B132-B4515695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F082-54D4-4D66-8133-DC463D777D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D50C-30B2-4E85-A126-1AC6E5802C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05264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IEGENGEWI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bjektbasiertes Strukturmu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weck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 modulare Struktur kleinster Granularität zur effektiv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meinsamen Nutzung von Objek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-&gt; dadurch Kostensenkung auf annehmbares Nivea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nn gleichzeitig in unterschiedlichen Kontexten verwendet wer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iert als unabhängiges Objekt, ohne Annahme über Einsatzgebi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IEGENGEWI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trinsischer / extrinsischer Zustand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de-DE" sz="1800" spc="-1" strike="noStrike">
                <a:solidFill>
                  <a:srgbClr val="cc0000"/>
                </a:solidFill>
                <a:latin typeface="Verdana"/>
              </a:rPr>
              <a:t>intrinsischer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stand wird im Fliegengewicht gespeiche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 er besteht ausschließlich aus der vom Kontext des Fliegen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wichtes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unabhängigen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-&gt; dadurch wird Fliegengewicht gemeinsam nutzb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de-DE" sz="1800" spc="-1" strike="noStrike">
                <a:solidFill>
                  <a:srgbClr val="cc0000"/>
                </a:solidFill>
                <a:latin typeface="Verdana"/>
              </a:rPr>
              <a:t>extrinsischer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stand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abhängig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vom Kontext des Fliegen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wichts und wechselt mit ih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 Fliegengewicht wird durch Klientobjekte mit benötig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xtrinsischem Zustand versorg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IEGENGEWI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spiel: „Dokumenteditor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intrinsisch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Zustand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eichencode eines jeweiligen Buchstabens im Alphab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extrinsisch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Zustand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raphische Positionierung, typographischer Stil ausgehe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on den Layout-Algorithmen des Edi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-&gt; jedes Auftreten eines Zeichens zu einem bestimmten Kon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weist auf eine gemeinsam genutzte Menge von Fliegen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wichtobjek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IEGENGEWI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satzbedingung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 eine Anwendung verwendet eine große Menge von Objek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 Speicherkosten allein aufgrund der Anzahl von Objekten gro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 Großteil des Objektzustands kann extrinsisch gemac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in den Kontext verlagert) wer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 viele Gruppen von Objekten können durch relativ weni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meinsam genutzte Objekte ersetzt wer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IEGENGEWI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49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uktu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cc0000"/>
                </a:solidFill>
                <a:latin typeface="Verdana"/>
              </a:rPr>
              <a:t>Fliegengewicht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(Klasse)</a:t>
            </a:r>
            <a:r>
              <a:rPr b="1" lang="de-DE" sz="1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eklariert Schnittstelle, durch die Fliegengewichte ein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xtrinsischen Zustand erhalten und verarbeiten könn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cc0000"/>
                </a:solidFill>
                <a:latin typeface="Verdana"/>
              </a:rPr>
              <a:t>KonkretesFliegengewicht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(Zeichen)</a:t>
            </a:r>
            <a:r>
              <a:rPr b="1" lang="de-DE" sz="1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mplementiert die Fliegengewicht-Schnittstel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cc0000"/>
                </a:solidFill>
                <a:latin typeface="Verdana"/>
              </a:rPr>
              <a:t>FliegengewichtFabrik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zeugt und verwaltet Fliegengewicht-Objekte und stellt sicher,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ß Fliegengewichte auf korrekte Weise gemeinsam genutzt werd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cc0000"/>
                </a:solidFill>
                <a:latin typeface="Verdana"/>
              </a:rPr>
              <a:t>Klient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erwaltet eine Referenz auf Fliegengewichte und berechnet/speichert der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xtrinsischen Zusta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57480" y="1841400"/>
            <a:ext cx="66276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IEGENGEWI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nsequenz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 mögliche Laufzeitkosten durch Transferieren, Aufsuchen o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rechnen des extrinsischen Zusta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 Speichergewinne abhängig v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+ Reduzierung der Gesamtmenge an Objekten aufgr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öglicher gemeinsamer Nutzu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+ Größe des intrinsischen Zustands pro Objek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+ Speicherung </a:t>
            </a:r>
            <a:r>
              <a:rPr b="0" lang="de-DE" sz="1400" spc="-1" strike="noStrike">
                <a:solidFill>
                  <a:srgbClr val="cc0000"/>
                </a:solidFill>
                <a:latin typeface="Verdana"/>
              </a:rPr>
              <a:t>oder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Berechnung des extrinsischen Zust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(Berechnung ergibt höhere Einsparu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-&gt; Einsparungen erhöhen sich mit Menge des gemeins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nutzten Zusta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IEGENGEWI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kannte Verwendung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 Konzept der Fliegengewichtobjekte erstmals in </a:t>
            </a:r>
            <a:r>
              <a:rPr b="0" lang="de-DE" sz="1800" spc="-1" strike="noStrike">
                <a:solidFill>
                  <a:srgbClr val="cc0000"/>
                </a:solidFill>
                <a:latin typeface="Verdana"/>
              </a:rPr>
              <a:t>InterViews 3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cc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schrieben und als Entwurfstechnik untersuc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-&gt; Entwicklung des Dokumenteditors </a:t>
            </a:r>
            <a:r>
              <a:rPr b="0" lang="de-DE" sz="1800" spc="-1" strike="noStrike">
                <a:solidFill>
                  <a:srgbClr val="cc0000"/>
                </a:solidFill>
                <a:latin typeface="Verdana"/>
              </a:rPr>
              <a:t>Do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+ Doc verwendete Glyphobjekte zur Representation jedes einzeln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Zeichens im Doku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+ Erzeugung eines Glyphexemplars für jedes Zeichen eines bestimm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tils, der seine graphischen Attribute definie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omi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1400" spc="-1" strike="noStrike">
                <a:solidFill>
                  <a:srgbClr val="cc0000"/>
                </a:solidFill>
                <a:latin typeface="Verdana"/>
              </a:rPr>
              <a:t>intrinsisch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= Zeichencode und Stilinformation (Index aus Stiltabel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1400" spc="-1" strike="noStrike">
                <a:solidFill>
                  <a:srgbClr val="cc0000"/>
                </a:solidFill>
                <a:latin typeface="Verdana"/>
              </a:rPr>
              <a:t>extrinsisch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= nur die Position (dadurch hohe Geschwindigkei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-&gt; in einem typischen Anwendungsfall mussten für ein a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80.000 Zeichen bestehendes Dokument lediglich 48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eichenobjekte alloziert wer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09:57:52Z</dcterms:created>
  <dc:creator>dojoman</dc:creator>
  <dc:description/>
  <dc:language>en-US</dc:language>
  <cp:lastModifiedBy>dojoman</cp:lastModifiedBy>
  <dcterms:modified xsi:type="dcterms:W3CDTF">2005-05-22T13:26:37Z</dcterms:modified>
  <cp:revision>33</cp:revision>
  <dc:subject/>
  <dc:title>FLIEGENGEWICHT</dc:title>
</cp:coreProperties>
</file>