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B7F9-FF50-4AF7-BD8E-CA816A7314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Zitat: „Schreibe deinen Code, schiebe ihn rüber und überlasse die Fehler der Qualitätskontrolle oder Testabteilung“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F05-75E5-462A-9262-FE2CA833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AEE-9B15-4D83-9A48-04259B74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D93-4082-4AC3-8EF9-87B1C6E8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729-C02C-4038-A81D-3C0A2259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DC94-0D36-46A8-BCA6-E9275095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818A-7D32-4E53-84AA-2C6D1D38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692C-2B75-4347-91D1-370DB2DA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5D08-3EE8-4610-B798-7869D78D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D52F-EB69-4FD7-A9C0-6B6BECD6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908D-AF3D-4B89-B5AE-B3DD0688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ABF8-91AC-4E59-BED3-E130E2DD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5E4-ACAF-4710-AA9A-513BDEED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0710-5B9C-42EB-A869-FD1FEF57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B511-B72F-4867-916D-0A4E3B9C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C151-F7BB-42C9-8EAB-4A5D9D73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EB99-D454-4593-9428-4C5E3CF9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0976-99F3-4A1A-AA95-4F1F2FFC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033-A3EC-4C94-9E7D-17B34328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D79-EF4D-419C-B123-8056B615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50A-22D6-4791-AE25-C2CFDF17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F01-DD0F-470C-A55D-D31C6D4D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25A-F4B2-42B1-8756-64323AE6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C94-AC7E-4DC2-A692-5FD3DCE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138-8EAF-4AFD-B689-C76835BC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6CAA-A0B8-47C4-B78F-03581ABF52F5}" type="slidenum">
              <a:rPr b="0" lang="de-DE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2847-4C29-4138-AC06-B481F42A8EA6}" type="slidenum">
              <a:rPr b="0" lang="de-DE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61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Writing Correct Pro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(Programme korrekt erstellen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45472"/>
                </a:solidFill>
                <a:latin typeface="Tahoma"/>
              </a:rPr>
              <a:t>Vortrag zum Oberseminar „Softwareentwicklung“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von Jörg Winkler (01IN-PI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Programmskizzierung (Pseudocod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1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l = 0; u = n-1;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2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loop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3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{mustbe(l, u)}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4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if l &gt; u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5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p = -1; break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6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m = (l + u) / 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7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case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8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x[m] &lt; t: </a:t>
            </a:r>
            <a:r>
              <a:rPr b="1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l = m + 1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9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x[m] == t: </a:t>
            </a:r>
            <a:r>
              <a:rPr b="1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p = m; break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0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x[m] &gt; t: </a:t>
            </a:r>
            <a:r>
              <a:rPr b="1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u = m - 1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1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Verifik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1</a:t>
            </a: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{mustbe(0, n-1)}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2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l = 0; u  = n-1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3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{mustbe(l, u)}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4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loop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5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   {mustbe(l, u)} 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6</a:t>
            </a: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    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if l &gt; u     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7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       {l &gt; u &amp;&amp; mustbe(l, u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8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       {t is not in the array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9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        p = -1; break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10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   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{mustbe(l, u) &amp;&amp; l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MS Mincho"/>
              </a:rPr>
              <a:t>≤ u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}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11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    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m = (l + u) / 2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12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   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{mustbe(l, u) &amp;&amp;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</a:rPr>
              <a:t>l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MS Mincho"/>
              </a:rPr>
              <a:t>≤ m ≤ u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13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   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case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14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       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x[m] &lt; t: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15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           {mustbe(l, u) &amp;&amp; cantbe(0, m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16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  {mustbe(m+1, u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17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  l = m+1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18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  {mustbe(l, u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19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       x[m] == t: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20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           {x[m] == t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21</a:t>
            </a: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            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p = m; break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22          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x[m] &gt; t: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23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            {mustbe(l, u) &amp;&amp; cantbe(m, n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24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           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{mustbe(l, m-1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25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           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u = m-1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26             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{mustbe(l, u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27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   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{mustbe(l, u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Verifik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Beweis der Richtigkeit für die Schleife (3 Teile)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Initialization 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(Initialisierung)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Invariante ist beim ersten Schleifendurchlauf wah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Preservation 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(Erhaltung)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gilt die Invariante zu Beginn einer Iteration, dann ist die Invariante immer noch wahr, wenn die Schleife ausgeführt wur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Termination 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(Abschluss)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die Schleife terminiert und das gewünschte Ergebnis p gil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Verifik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Teil 1:</a:t>
            </a:r>
            <a:r>
              <a:rPr b="0" lang="de-DE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„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Invariante ist beim ersten Schleifendurchlauf wahr“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Teil 2 &amp; 3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Argumentation durch nähere Betrachtung der Zeilen 4 bis 27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durch die 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break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-Anweisungen in Zeile 9 und 21 zeigen wir den Abbruch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3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{mustbe(l, u)}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4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loop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buClr>
                <a:srgbClr val="545472"/>
              </a:buClr>
              <a:buSzPct val="90000"/>
              <a:buFont typeface="Verdan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{mustbe(l, u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4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loop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5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   {mustbe(l, u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…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25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           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u = m-1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26             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{mustbe(l, u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27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    </a:t>
            </a:r>
            <a:r>
              <a:rPr b="0" lang="de-DE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{mustbe(l, u)}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Times New Roman"/>
              </a:rPr>
              <a:t>9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Times New Roman"/>
              </a:rPr>
              <a:t>    p = -1; break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Verdana"/>
                <a:ea typeface="Courier New"/>
              </a:rPr>
              <a:t>21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545472"/>
                </a:solidFill>
                <a:latin typeface="Verdana"/>
                <a:ea typeface="Courier New"/>
              </a:rPr>
              <a:t>   p = m; break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Verifik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l = 0; u = n-1;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loop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{mustbe(l, u)}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if l &gt; u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p = -1; break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m = (l + u) / 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case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x[m] &lt; t: l = m + 1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x[m] == t: p = m; break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x[m] &gt; t: u = m - 1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120"/>
            <a:ext cx="1905120" cy="609480"/>
          </a:xfrm>
          <a:prstGeom prst="wedgeRoundRectCallout">
            <a:avLst>
              <a:gd name="adj1" fmla="val -9000"/>
              <a:gd name="adj2" fmla="val 172657"/>
              <a:gd name="adj3" fmla="val 16667"/>
            </a:avLst>
          </a:prstGeom>
          <a:solidFill>
            <a:srgbClr val="a7ccd9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mustbe(0, n-1)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609480"/>
            <a:ext cx="1676520" cy="609840"/>
          </a:xfrm>
          <a:prstGeom prst="wedgeRoundRectCallout">
            <a:avLst>
              <a:gd name="adj1" fmla="val -33712"/>
              <a:gd name="adj2" fmla="val 205731"/>
              <a:gd name="adj3" fmla="val 16667"/>
            </a:avLst>
          </a:prstGeom>
          <a:solidFill>
            <a:srgbClr val="c7c7df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mustbe(l, u)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981080"/>
            <a:ext cx="2743200" cy="838440"/>
          </a:xfrm>
          <a:prstGeom prst="wedgeRoundRectCallout">
            <a:avLst>
              <a:gd name="adj1" fmla="val -71990"/>
              <a:gd name="adj2" fmla="val 86740"/>
              <a:gd name="adj3" fmla="val 16667"/>
            </a:avLst>
          </a:prstGeom>
          <a:solidFill>
            <a:srgbClr val="a7ccd9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l &gt; u &amp;&amp; mustbe(l, u)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t is not in the array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895480"/>
            <a:ext cx="1600200" cy="762120"/>
          </a:xfrm>
          <a:prstGeom prst="wedgeRoundRectCallout">
            <a:avLst>
              <a:gd name="adj1" fmla="val 45138"/>
              <a:gd name="adj2" fmla="val 71875"/>
              <a:gd name="adj3" fmla="val 16667"/>
            </a:avLst>
          </a:prstGeom>
          <a:solidFill>
            <a:srgbClr val="a7ccd9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mustbe(l, u) &amp;&amp; l </a:t>
            </a:r>
            <a:r>
              <a:rPr b="0" lang="de-DE" sz="1600" spc="-1" strike="noStrike">
                <a:solidFill>
                  <a:srgbClr val="545472"/>
                </a:solidFill>
                <a:latin typeface="MS Mincho"/>
                <a:ea typeface="MS Mincho"/>
              </a:rPr>
              <a:t>≤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 u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2743200"/>
            <a:ext cx="1981080" cy="838080"/>
          </a:xfrm>
          <a:prstGeom prst="wedgeRoundRectCallout">
            <a:avLst>
              <a:gd name="adj1" fmla="val -80449"/>
              <a:gd name="adj2" fmla="val 86740"/>
              <a:gd name="adj3" fmla="val 16667"/>
            </a:avLst>
          </a:prstGeom>
          <a:solidFill>
            <a:srgbClr val="c7c7df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mustbe(l, u) &amp;&amp;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l </a:t>
            </a:r>
            <a:r>
              <a:rPr b="0" lang="de-DE" sz="1600" spc="-1" strike="noStrike">
                <a:solidFill>
                  <a:srgbClr val="545472"/>
                </a:solidFill>
                <a:latin typeface="MS Mincho"/>
                <a:ea typeface="MS Mincho"/>
              </a:rPr>
              <a:t>≤ 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MS Mincho"/>
              </a:rPr>
              <a:t>m</a:t>
            </a:r>
            <a:r>
              <a:rPr b="0" lang="de-DE" sz="1600" spc="-1" strike="noStrike">
                <a:solidFill>
                  <a:srgbClr val="545472"/>
                </a:solidFill>
                <a:latin typeface="MS Mincho"/>
                <a:ea typeface="MS Mincho"/>
              </a:rPr>
              <a:t> ≤ 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MS Mincho"/>
              </a:rPr>
              <a:t>u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343400"/>
            <a:ext cx="2057400" cy="914400"/>
          </a:xfrm>
          <a:prstGeom prst="wedgeRoundRectCallout">
            <a:avLst>
              <a:gd name="adj1" fmla="val 73300"/>
              <a:gd name="adj2" fmla="val -32291"/>
              <a:gd name="adj3" fmla="val 16667"/>
            </a:avLst>
          </a:prstGeom>
          <a:solidFill>
            <a:srgbClr val="a7ccd9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mustbe(l, u) &amp;&amp;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cantbe(0, m)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mustbe(m+1, u)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3962520"/>
            <a:ext cx="1600200" cy="533160"/>
          </a:xfrm>
          <a:prstGeom prst="wedgeRoundRectCallout">
            <a:avLst>
              <a:gd name="adj1" fmla="val -77282"/>
              <a:gd name="adj2" fmla="val 44939"/>
              <a:gd name="adj3" fmla="val 16667"/>
            </a:avLst>
          </a:prstGeom>
          <a:solidFill>
            <a:srgbClr val="a7ccd9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mustbe(l, u)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81480"/>
            <a:ext cx="1371600" cy="457200"/>
          </a:xfrm>
          <a:prstGeom prst="wedgeRoundRectCallout">
            <a:avLst>
              <a:gd name="adj1" fmla="val 54050"/>
              <a:gd name="adj2" fmla="val -113194"/>
              <a:gd name="adj3" fmla="val 16667"/>
            </a:avLst>
          </a:prstGeom>
          <a:solidFill>
            <a:srgbClr val="c7c7df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x[m] == t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5181480"/>
            <a:ext cx="1600200" cy="533520"/>
          </a:xfrm>
          <a:prstGeom prst="wedgeRoundRectCallout">
            <a:avLst>
              <a:gd name="adj1" fmla="val -75791"/>
              <a:gd name="adj2" fmla="val -48810"/>
              <a:gd name="adj3" fmla="val 16667"/>
            </a:avLst>
          </a:prstGeom>
          <a:solidFill>
            <a:srgbClr val="c7c7df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mustbe(l, u)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5562720"/>
            <a:ext cx="2057400" cy="914400"/>
          </a:xfrm>
          <a:prstGeom prst="wedgeRoundRectCallout">
            <a:avLst>
              <a:gd name="adj1" fmla="val -27777"/>
              <a:gd name="adj2" fmla="val -85763"/>
              <a:gd name="adj3" fmla="val 16667"/>
            </a:avLst>
          </a:prstGeom>
          <a:solidFill>
            <a:srgbClr val="a7ccd9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mustbe(l, u) &amp;&amp;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cantbe(m, n)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mustbe(l, m-1)</a:t>
            </a:r>
            <a:endParaRPr b="0" lang="en-US" sz="16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Prinzipien der Verifik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Generelle Prinzipien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Assertion 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(Grundannahmen)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die Beziehungen zwischen Eingabe, Programmvariablen und Ausgabe beschreiben den </a:t>
            </a:r>
            <a:r>
              <a:rPr b="0" lang="de-DE" sz="2000" spc="-1" strike="noStrike" u="sng">
                <a:solidFill>
                  <a:srgbClr val="545472"/>
                </a:solidFill>
                <a:uFillTx/>
                <a:latin typeface="Tahoma"/>
              </a:rPr>
              <a:t>Zustand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„state“ eines Programm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Grundannahmen ermöglichen die präzise Beschreibung dieser Beziehunge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545472"/>
                </a:solidFill>
                <a:uFillTx/>
                <a:latin typeface="Tahoma"/>
              </a:rPr>
              <a:t>Sequential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Control Structures 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(Sequenzielle Strukturen zur Ablaufsteuerung)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um „do this statement then that statement“-Strukturen zu verstehen, setzen wird Grundannahmen dazwischen und analysieren jeden Schrit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Prinzipien der Verifik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545472"/>
                </a:solidFill>
                <a:uFillTx/>
                <a:latin typeface="Tahoma"/>
              </a:rPr>
              <a:t>Selection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Control Structures 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(Auswahlstrukturen zur Ablaufsteuerung)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verschiedene Formen von if- und case-Anweisungen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einzelne Betrachtung der Auswahlmöglichkeite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durch die Auswahl kommen nützliche Annahmen hinzu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545472"/>
                </a:solidFill>
                <a:uFillTx/>
                <a:latin typeface="Tahoma"/>
              </a:rPr>
              <a:t>Iteration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Control Structures 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(Auswahlstrukturen mit Iteration)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dazu müssen zuvor drei weitere Eigenschaften festgelegt werden 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(siehe Beispiel Binäre Suche)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Initalization (Initialisierung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Preservation (Erhaltung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Termination (Beendigung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Prinzipien der Verifik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durch Induktion zeigen wir, dass die Invariante vor und nach jeder Schleifeniteration wahr i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weiter ist zu zeigen, dass das Ergebnis am Ende eines jeden Schleifendurchlaufes wahr i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zusammen zeigt dies, dass jedes Anhalten der Schleife korrekt i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Functions 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(Funktionen)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um eine Funktion zu überprüfen, setzen wir durch zwei Grundannahmen ihren Zweck fest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Precondition (Vorbedingung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Postcondition (Nachbedingung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diese Bedingungen sind eher ein Vertrag als eine Tatsachen-behauptung 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(Programming by Contract)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Aufgaben der Verifik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Alternative zum normalen Überprüfen mit Testfäll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stellt den Programmierern eine ‚Sprache‘ zur Verfügung,  in der sie ihr Verstehen ausdrücken könn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ermöglicht die Skizzierung z.B. von Invarianten in einer Schleif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Verletzungen von Anweisungen weisen den Weg zu Fehlern und zeigen wie diese behoben werden können ohne Neue einzuführ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hilft dabei Grundannahmen treffen zu können und zu entscheiden, welche davon in die Software (in Form von Kommentaren) aufgenommen werd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Bemerkungen &amp; Problem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die Techniken der Verifikation stellen nur einen kleinen Schritt auf den Weg zu korrekten Programmen da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ein einfacher Code ist meist der richtige Weg zur Korrekthei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oft wird beim beim Programmieren von ‚schweren‘ Passagen erfolgreich mit mächtigen Formalismen gearbeitet, jedoch bei den vermeidlichen ‚einfachen‘ Stellen fällt man meist zum ‚alten‘ Programmierstil mit seinen Fehlern zurück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Inhalt des Vortrag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Wiederholung ‚Binäre Suche‘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Herausforderung ‚Binäre Suche‘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Programmskizzieru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Verifik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Prinzipien der Verifik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Aufgabe der Verifik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Bemerkungen &amp; Problem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weitere Beispiel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Quell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Aufgaben zum Grübeln für Unterweg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Beweisen Sie, dass das folgende Programm endet, wenn seine Eingabe 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x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eine positive ganze Zahl is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while x != 1 do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if even(x) x = x/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else x = 3 * x + 1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(über 100 Hinweise: www.research.att.com/~jcl/3x+1.html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‚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Kaffeedosenproblem‘ 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– Dose mit schwarzen und weißen Bohnen und einem Extrahaufen schwarzer Bohne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Wähle 2 Beliebige </a:t>
            </a:r>
            <a:r>
              <a:rPr b="0" lang="de-DE" sz="1800" spc="-1" strike="noStrike">
                <a:solidFill>
                  <a:srgbClr val="545472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 bei gleicher Farbe wechseln gegen Schwarz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45472"/>
                </a:solidFill>
                <a:latin typeface="Tahoma"/>
              </a:rPr>
              <a:t>Ansonsten Schwarze entfernen und Weiße zurück in die Dos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Beweis der Termination &amp; Aussage über die Farbe der letzten Bohne in Abhängigkeit der Anzahl von weißen und schwarzen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Quelle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[1] 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Jon</a:t>
            </a:r>
            <a:r>
              <a:rPr b="0" lang="de-DE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Bentley:</a:t>
            </a:r>
            <a:r>
              <a:rPr b="0" lang="de-DE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545472"/>
                </a:solidFill>
                <a:latin typeface="Tahoma"/>
              </a:rPr>
              <a:t>Programming Pearls</a:t>
            </a:r>
            <a:r>
              <a:rPr b="0" lang="de-DE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[Addision-Wesley, 2. Auflage, 2000]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[2] 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Jon Bentley:</a:t>
            </a:r>
            <a:r>
              <a:rPr b="0" lang="de-DE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545472"/>
                </a:solidFill>
                <a:latin typeface="Tahoma"/>
              </a:rPr>
              <a:t>Perlen der Programmierkun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[Addision-Wesley, 2. Auflage, 2000]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[3] 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Online-Ausgabe:</a:t>
            </a:r>
            <a:r>
              <a:rPr b="0" lang="de-DE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545472"/>
                </a:solidFill>
                <a:latin typeface="Tahoma"/>
              </a:rPr>
              <a:t>Progamming Pearl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http://www.cs.bell-labs.com/cm/cs/pearls/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[4]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David Gries: </a:t>
            </a:r>
            <a:r>
              <a:rPr b="1" lang="de-DE" sz="2400" spc="-1" strike="noStrike">
                <a:solidFill>
                  <a:srgbClr val="545472"/>
                </a:solidFill>
                <a:latin typeface="Tahoma"/>
              </a:rPr>
              <a:t>The Science of Programm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[Springer Verlag, 1987]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Dank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Vortrag &amp; Ausarbeitu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demnäch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hier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www.imn.htwk-leipzig.de/~jwinkle3/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Wunsch nach Programmen zur Überprüfung der Richtigkeit anderer Programme in den späten 60iger Jahr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Neuer Ansatz: Vermittlung eines grundlegenden Verständnisses der Computerprogrammieru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400" spc="-1" strike="noStrike" u="sng">
                <a:solidFill>
                  <a:srgbClr val="545472"/>
                </a:solidFill>
                <a:uFillTx/>
                <a:latin typeface="Tahoma"/>
              </a:rPr>
              <a:t>Ziel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: Schreiben korrekter Programm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Betrachtung nachfolgend am Beispiel der Binärsuc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Wiederholung </a:t>
            </a:r>
            <a:r>
              <a:rPr b="0" i="1" lang="de-DE" sz="4000" spc="-1" strike="noStrike">
                <a:solidFill>
                  <a:srgbClr val="660066"/>
                </a:solidFill>
                <a:latin typeface="Tahoma"/>
              </a:rPr>
              <a:t>Binäre Such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Ausgangslage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sortiertes Array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[0 .. n-1]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mit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n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545472"/>
                </a:solidFill>
                <a:latin typeface="MS Mincho"/>
                <a:ea typeface="MS Mincho"/>
              </a:rPr>
              <a:t>≥</a:t>
            </a:r>
            <a:r>
              <a:rPr b="0" lang="de-DE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0 und x[0] </a:t>
            </a:r>
            <a:r>
              <a:rPr b="1" lang="de-DE" sz="2000" spc="-1" strike="noStrike">
                <a:solidFill>
                  <a:srgbClr val="545472"/>
                </a:solidFill>
                <a:latin typeface="MS Mincho"/>
                <a:ea typeface="MS Mincho"/>
              </a:rPr>
              <a:t>≤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x[1] </a:t>
            </a:r>
            <a:r>
              <a:rPr b="1" lang="de-DE" sz="2000" spc="-1" strike="noStrike">
                <a:solidFill>
                  <a:srgbClr val="545472"/>
                </a:solidFill>
                <a:latin typeface="MS Mincho"/>
                <a:ea typeface="MS Mincho"/>
              </a:rPr>
              <a:t>≤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... </a:t>
            </a:r>
            <a:r>
              <a:rPr b="1" lang="de-DE" sz="2000" spc="-1" strike="noStrike">
                <a:solidFill>
                  <a:srgbClr val="545472"/>
                </a:solidFill>
                <a:latin typeface="MS Mincho"/>
                <a:ea typeface="MS Mincho"/>
              </a:rPr>
              <a:t>≤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x[n-1]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der Datentyp von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t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und den Elementen von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ist gleic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Verfahren </a:t>
            </a:r>
            <a:r>
              <a:rPr b="0" lang="de-DE" sz="2000" spc="-1" strike="noStrike">
                <a:solidFill>
                  <a:srgbClr val="660066"/>
                </a:solidFill>
                <a:latin typeface="Tahoma"/>
              </a:rPr>
              <a:t>(sehr grob)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Suche ob gesuchte Zahl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t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enthalten i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Ergebni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Position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p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von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t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in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mit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p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= -1, falls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t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nicht in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oder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 = 0 (leeres Array) enthalten, anderenfalls 0 </a:t>
            </a:r>
            <a:r>
              <a:rPr b="1" lang="de-DE" sz="2000" spc="-1" strike="noStrike">
                <a:solidFill>
                  <a:srgbClr val="545472"/>
                </a:solidFill>
                <a:latin typeface="MS Mincho"/>
                <a:ea typeface="MS Mincho"/>
              </a:rPr>
              <a:t>≤ </a:t>
            </a:r>
            <a:r>
              <a:rPr b="0" i="1" lang="de-DE" sz="2000" spc="-1" strike="noStrike">
                <a:solidFill>
                  <a:srgbClr val="545472"/>
                </a:solidFill>
                <a:latin typeface="Tahoma"/>
              </a:rPr>
              <a:t>p</a:t>
            </a:r>
            <a:r>
              <a:rPr b="1" lang="de-DE" sz="2000" spc="-1" strike="noStrike">
                <a:solidFill>
                  <a:srgbClr val="545472"/>
                </a:solidFill>
                <a:latin typeface="MS Mincho"/>
                <a:ea typeface="MS Mincho"/>
              </a:rPr>
              <a:t> ≤ </a:t>
            </a:r>
            <a:r>
              <a:rPr b="0" lang="de-DE" sz="2000" spc="-1" strike="noStrike">
                <a:solidFill>
                  <a:srgbClr val="545472"/>
                </a:solidFill>
                <a:latin typeface="Tahoma"/>
              </a:rPr>
              <a:t>n-1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Herausforderung </a:t>
            </a:r>
            <a:r>
              <a:rPr b="0" i="1" lang="de-DE" sz="4000" spc="-1" strike="noStrike">
                <a:solidFill>
                  <a:srgbClr val="660066"/>
                </a:solidFill>
                <a:latin typeface="Tahoma"/>
              </a:rPr>
              <a:t>Binäre Such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Jon Bentley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Nur 10% der professionellen Programmierer, konnten nach mehreren Stunden die Binärsuche fehlerfrei in der Sprache ihrer Wahl beschreiben.“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1946: erste Veröffentlichung der Binären Suc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1962: erste </a:t>
            </a:r>
            <a:r>
              <a:rPr b="0" lang="de-DE" sz="2400" spc="-1" strike="noStrike" u="sng">
                <a:solidFill>
                  <a:srgbClr val="545472"/>
                </a:solidFill>
                <a:uFillTx/>
                <a:latin typeface="Tahoma"/>
              </a:rPr>
              <a:t>fehlerfreie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Binär-Suc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Programmskizzierung</a:t>
            </a:r>
            <a:br>
              <a:rPr sz="4000"/>
            </a:b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(Verfahren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Idee: wenn </a:t>
            </a:r>
            <a:r>
              <a:rPr b="0" i="1" lang="de-DE" sz="2400" spc="-1" strike="noStrike">
                <a:solidFill>
                  <a:srgbClr val="545472"/>
                </a:solidFill>
                <a:latin typeface="Tahoma"/>
              </a:rPr>
              <a:t>t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irgendwo in </a:t>
            </a:r>
            <a:r>
              <a:rPr b="0" i="1" lang="de-DE" sz="2400" spc="-1" strike="noStrike">
                <a:solidFill>
                  <a:srgbClr val="545472"/>
                </a:solidFill>
                <a:latin typeface="Tahoma"/>
              </a:rPr>
              <a:t>x 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[0 .. </a:t>
            </a:r>
            <a:r>
              <a:rPr b="0" i="1" lang="de-DE" sz="2400" spc="-1" strike="noStrike">
                <a:solidFill>
                  <a:srgbClr val="545472"/>
                </a:solidFill>
                <a:latin typeface="Tahoma"/>
              </a:rPr>
              <a:t>n 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-1] enthalten ist, dann innerhalb der Grenzen (range) von </a:t>
            </a:r>
            <a:r>
              <a:rPr b="0" i="1" lang="de-DE" sz="2400" spc="-1" strike="noStrike">
                <a:solidFill>
                  <a:srgbClr val="545472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Kurz: 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</a:rPr>
              <a:t>mustbe(range)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Betrachtung des mittleren Elementes von </a:t>
            </a:r>
            <a:r>
              <a:rPr b="0" i="1" lang="de-DE" sz="24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und Vergleich mit </a:t>
            </a:r>
            <a:r>
              <a:rPr b="0" i="1" lang="de-DE" sz="2400" spc="-1" strike="noStrike">
                <a:solidFill>
                  <a:srgbClr val="54547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(1)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i="1" lang="de-DE" sz="2400" spc="-1" strike="noStrike">
                <a:solidFill>
                  <a:srgbClr val="545472"/>
                </a:solidFill>
                <a:latin typeface="Tahoma"/>
              </a:rPr>
              <a:t>t 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ist mittleres Element von</a:t>
            </a:r>
            <a:r>
              <a:rPr b="0" i="1" lang="de-DE" sz="2400" spc="-1" strike="noStrike">
                <a:solidFill>
                  <a:srgbClr val="545472"/>
                </a:solidFill>
                <a:latin typeface="Tahoma"/>
              </a:rPr>
              <a:t> x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... End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(2)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Verkleinerung der Grenz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Wiederholung bis </a:t>
            </a:r>
            <a:r>
              <a:rPr b="0" i="1" lang="de-DE" sz="2400" spc="-1" strike="noStrike">
                <a:solidFill>
                  <a:srgbClr val="545472"/>
                </a:solidFill>
                <a:latin typeface="Tahoma"/>
              </a:rPr>
              <a:t>t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gefunden oder </a:t>
            </a:r>
            <a:r>
              <a:rPr b="0" i="1" lang="de-DE" sz="24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de-DE" sz="2400" spc="-1" strike="noStrike">
                <a:solidFill>
                  <a:srgbClr val="545472"/>
                </a:solidFill>
                <a:latin typeface="Tahoma"/>
              </a:rPr>
              <a:t> leer i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Programmskizzierung (Pseudocod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1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initialize range to 0..n-1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2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loop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3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{invariant: mustbe(range)}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4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if range is empty,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5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break and report that t is not in the array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6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compute m, the middle of the range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7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use m as probe to shrink the range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8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if t is found during the shrinking process,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9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break and report its position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0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1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Programmskizzierung (Pseudocod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1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l = 0; u = n-1;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2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loop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3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{invariant: </a:t>
            </a:r>
            <a:r>
              <a:rPr b="1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mustbe(l, u)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}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4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if l &gt; u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5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p = -1; break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6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m = (l + u) / 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7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use m as probe to shrink the range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8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if t is found during the shrinking process,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9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break and report its position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0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1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Programmskizzierung (Pseudocod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1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l = 0; u = n-1;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2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loop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3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{mustbe(l, u)}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4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if l &gt; u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5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p = -1; break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6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m = (l + u) / 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7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case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Courier New"/>
              </a:rPr>
              <a:t>8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545472"/>
                </a:solidFill>
                <a:latin typeface="Verdana"/>
                <a:ea typeface="Courier New"/>
              </a:rPr>
              <a:t>x[m] &lt; t: action a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9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x[m] == t: action b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0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	</a:t>
            </a:r>
            <a:r>
              <a:rPr b="1" lang="de-DE" sz="1600" spc="-1" strike="noStrike">
                <a:solidFill>
                  <a:srgbClr val="545472"/>
                </a:solidFill>
                <a:latin typeface="Verdana"/>
                <a:ea typeface="Times New Roman"/>
              </a:rPr>
              <a:t>x[m] &gt; t: action c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1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1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riting Correct Progra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2:08:40Z</dcterms:created>
  <dc:creator>Lizenznehmer</dc:creator>
  <dc:description/>
  <dc:language>en-US</dc:language>
  <cp:lastModifiedBy>Lizenznehmer</cp:lastModifiedBy>
  <dcterms:modified xsi:type="dcterms:W3CDTF">2005-05-03T13:12:57Z</dcterms:modified>
  <cp:revision>40</cp:revision>
  <dc:subject/>
  <dc:title>Writing Correct Programs</dc:title>
</cp:coreProperties>
</file>